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E4F-13FC-4735-8696-79546BD4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CAC-FAE9-4E73-9E0C-4778A9BA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7DA-6DF1-44F2-BDEB-BD32FA54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16C-EF07-44D7-A52A-76F7C6DE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0E2-33C2-4DA9-BE02-27A33FBF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858-0D99-483A-A6B5-A6B03049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EA0-E99F-45A7-B7E1-6612F39E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CAA-9A87-4708-89D9-E628047A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91B-C985-476C-B7EC-0D68F9F8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999-FAD4-48C8-902B-20C834A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D5A-A70F-4EF7-AC7A-5FB8EEBE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81E-91C5-491B-A5EA-E4F2C9AB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e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EC589D-0704-4B1A-BB85-821BCDFE7E50}" type="slidenum">
              <a:rPr b="0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600" y="2408040"/>
            <a:ext cx="10572480" cy="227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hr-HR" sz="1600" spc="-1" strike="noStrike">
                <a:solidFill>
                  <a:srgbClr val="000000"/>
                </a:solidFill>
                <a:latin typeface="Calibri Light"/>
              </a:rPr>
              <a:t>DRŽAVNA SMOTRA PROJEKATA U PODRUČJU</a:t>
            </a: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Calibri Light"/>
              </a:rPr>
              <a:t>NACIONALNOG PROGRAMA ODGOJA I OBRAZOVANJA ZA LJUDSKA PRAVA</a:t>
            </a: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Calibri Light"/>
              </a:rPr>
              <a:t>I DEMOKRATSKO GRAĐANSTVO VLADE REPUBLIKE HRVATSK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Calibri Light"/>
              </a:rPr>
              <a:t>ZA RANI I PREDŠKOLSKI ODGOJ I OBRAZOVANJE</a:t>
            </a:r>
            <a:br>
              <a:rPr sz="1600"/>
            </a:b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Calibri Light"/>
              </a:rPr>
              <a:t>Zadar, 15. do 17. svibnja 2019.   </a:t>
            </a:r>
            <a:br>
              <a:rPr sz="1600"/>
            </a:br>
            <a:r>
              <a:rPr b="1" lang="hr-HR" sz="16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1600"/>
            </a:br>
            <a:br>
              <a:rPr sz="1800"/>
            </a:br>
            <a:br>
              <a:rPr sz="1800"/>
            </a:br>
            <a:r>
              <a:rPr b="1" lang="hr-HR" sz="3600" spc="-1" strike="noStrike">
                <a:solidFill>
                  <a:srgbClr val="000000"/>
                </a:solidFill>
                <a:latin typeface="Calibri Light"/>
              </a:rPr>
              <a:t>Kriteriji vrednovanja projekata u području građanskog odgoja i obrazovanja</a:t>
            </a: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09280" y="5281200"/>
            <a:ext cx="10572840" cy="9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Mirjana Milanović, pro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lika 3" descr=""/>
          <p:cNvPicPr/>
          <p:nvPr/>
        </p:nvPicPr>
        <p:blipFill>
          <a:blip r:embed="rId1"/>
          <a:stretch/>
        </p:blipFill>
        <p:spPr>
          <a:xfrm>
            <a:off x="10461600" y="299880"/>
            <a:ext cx="127332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0320" y="259920"/>
            <a:ext cx="10676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 Light"/>
              </a:rPr>
              <a:t>Dijete i dimenzije građanske kompetenci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76280" y="2752560"/>
            <a:ext cx="1857240" cy="503280"/>
          </a:xfrm>
          <a:prstGeom prst="rect">
            <a:avLst/>
          </a:prstGeom>
          <a:solidFill>
            <a:srgbClr val="418a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JA JESA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76280" y="3726000"/>
            <a:ext cx="1857240" cy="503280"/>
          </a:xfrm>
          <a:prstGeom prst="rect">
            <a:avLst/>
          </a:prstGeom>
          <a:solidFill>
            <a:srgbClr val="418a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JA MOGU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76280" y="4684680"/>
            <a:ext cx="1857240" cy="503280"/>
          </a:xfrm>
          <a:prstGeom prst="rect">
            <a:avLst/>
          </a:prstGeom>
          <a:solidFill>
            <a:srgbClr val="418a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entury Gothic"/>
              </a:rPr>
              <a:t>JA IMA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2938320" y="1208160"/>
            <a:ext cx="3343320" cy="72072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OLITIČ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avila, pravednost, dem. odl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916360" y="2081160"/>
            <a:ext cx="3343320" cy="86364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DRUŠTVEN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komunikacija, socijalne vještin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upravljanje emocijama, sukobim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913120" y="3105000"/>
            <a:ext cx="3343320" cy="72072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LJUDSKO PRAVN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rava, zaštita, obvez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913120" y="3927600"/>
            <a:ext cx="3343320" cy="86508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OSPODARS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navike, poštivanje rada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poduzetnišvo, rekla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913120" y="4932360"/>
            <a:ext cx="3343320" cy="79200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KULTUROLOŠ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Identitet, različitos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2454120" y="1886040"/>
            <a:ext cx="216000" cy="3959280"/>
          </a:xfrm>
          <a:custGeom>
            <a:avLst/>
            <a:gdLst>
              <a:gd name="textAreaLeft" fmla="*/ 0 w 216000"/>
              <a:gd name="textAreaRight" fmla="*/ 78120 w 216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6505560" y="1928880"/>
            <a:ext cx="216000" cy="3959280"/>
          </a:xfrm>
          <a:custGeom>
            <a:avLst/>
            <a:gdLst>
              <a:gd name="textAreaLeft" fmla="*/ 0 w 216000"/>
              <a:gd name="textAreaRight" fmla="*/ 78120 w 216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0064880" y="2925720"/>
            <a:ext cx="1965240" cy="21034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Željena aktivnos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djeteta kojom ć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demonstrirat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stečeno znanje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000" spc="-1" strike="noStrike">
                <a:solidFill>
                  <a:srgbClr val="0d0d0d"/>
                </a:solidFill>
                <a:latin typeface="Calibri"/>
              </a:rPr>
              <a:t>vještinu i stav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2913120" y="5864400"/>
            <a:ext cx="3343320" cy="720720"/>
          </a:xfrm>
          <a:prstGeom prst="rect">
            <a:avLst/>
          </a:prstGeom>
          <a:solidFill>
            <a:srgbClr val="f2f2f2"/>
          </a:solidFill>
          <a:ln w="936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EKOLOŠK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Calibri"/>
              </a:rPr>
              <a:t>Zaštita okoliša, resursi, gosp. ot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6969240" y="1208160"/>
            <a:ext cx="2519280" cy="537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0070c0"/>
                </a:solidFill>
                <a:latin typeface="Calibri"/>
              </a:rPr>
              <a:t>Komeptencij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Ciljev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316886"/>
                </a:solidFill>
                <a:latin typeface="Calibri"/>
              </a:rPr>
              <a:t>Ishod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00b050"/>
                </a:solidFill>
                <a:latin typeface="Calibri"/>
              </a:rPr>
              <a:t>Izvori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00b050"/>
                </a:solidFill>
                <a:latin typeface="Calibri"/>
              </a:rPr>
              <a:t>Poučavanj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Provjera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ostvarenosti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Calibri"/>
              </a:rPr>
              <a:t>ishod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Strelica udesno 1"/>
          <p:cNvSpPr/>
          <p:nvPr/>
        </p:nvSpPr>
        <p:spPr>
          <a:xfrm>
            <a:off x="9264600" y="2948040"/>
            <a:ext cx="696960" cy="3128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18ab3"/>
          </a:solidFill>
          <a:ln w="12600">
            <a:solidFill>
              <a:srgbClr val="2d6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10064880" y="1128600"/>
            <a:ext cx="1965240" cy="438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d0d0d"/>
                </a:solidFill>
                <a:latin typeface="Calibri"/>
              </a:rPr>
              <a:t>sposobnos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Strelica udesno 17"/>
          <p:cNvSpPr/>
          <p:nvPr/>
        </p:nvSpPr>
        <p:spPr>
          <a:xfrm>
            <a:off x="9264600" y="2031840"/>
            <a:ext cx="696960" cy="3114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18ab3"/>
          </a:solidFill>
          <a:ln w="12600">
            <a:solidFill>
              <a:srgbClr val="2d6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Strelica udesno 18"/>
          <p:cNvSpPr/>
          <p:nvPr/>
        </p:nvSpPr>
        <p:spPr>
          <a:xfrm>
            <a:off x="9340920" y="1208160"/>
            <a:ext cx="696960" cy="31104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418ab3"/>
          </a:solidFill>
          <a:ln w="12600">
            <a:solidFill>
              <a:srgbClr val="2d6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10037880" y="1760400"/>
            <a:ext cx="1965240" cy="789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d0d0d"/>
                </a:solidFill>
                <a:latin typeface="Calibri"/>
              </a:rPr>
              <a:t>Omogućiti,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r-HR" sz="2400" spc="-1" strike="noStrike">
                <a:solidFill>
                  <a:srgbClr val="0d0d0d"/>
                </a:solidFill>
                <a:latin typeface="Calibri"/>
              </a:rPr>
              <a:t>Poticati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1. Izbor teme - dijet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elevantna za život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blem se nalazi u središtu djetetovog intere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ješava aktualnu potreb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ezan uz prava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Razvija vještine demokratskog građanst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s://encrypted-tbn1.gstatic.com/images?q=tbn:ANd9GcQKvCENMZwDO34E9W4m0TxFX6h1eIwvzooF3XYc3-DYhRn-j25DC-5tVMZo"/>
          <p:cNvPicPr/>
          <p:nvPr/>
        </p:nvPicPr>
        <p:blipFill>
          <a:blip r:embed="rId1"/>
          <a:stretch/>
        </p:blipFill>
        <p:spPr>
          <a:xfrm>
            <a:off x="2017800" y="5403960"/>
            <a:ext cx="1144440" cy="11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s://encrypted-tbn2.gstatic.com/images?q=tbn:ANd9GcTT4Q4q42EaMatxqCDTMT2GegZbP1PKqna96iM3WkzHa9gYQBOFyA"/>
          <p:cNvPicPr/>
          <p:nvPr/>
        </p:nvPicPr>
        <p:blipFill>
          <a:blip r:embed="rId2"/>
          <a:stretch/>
        </p:blipFill>
        <p:spPr>
          <a:xfrm>
            <a:off x="271440" y="5403960"/>
            <a:ext cx="1506600" cy="1128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s://encrypted-tbn3.gstatic.com/images?q=tbn:ANd9GcQlPHCbT84sc9hXYvY7INcoGuWRQfU3oulkwYzPu-MoAK5CJd0csw"/>
          <p:cNvPicPr/>
          <p:nvPr/>
        </p:nvPicPr>
        <p:blipFill>
          <a:blip r:embed="rId3"/>
          <a:stretch/>
        </p:blipFill>
        <p:spPr>
          <a:xfrm>
            <a:off x="3503520" y="5403960"/>
            <a:ext cx="1292400" cy="110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s://encrypted-tbn2.gstatic.com/images?q=tbn:ANd9GcRlNAKOjkgW3VsrP0P3DOdysRDbDwdEfHQ4-qke6igdSukSNiAD9g"/>
          <p:cNvPicPr/>
          <p:nvPr/>
        </p:nvPicPr>
        <p:blipFill>
          <a:blip r:embed="rId4"/>
          <a:stretch/>
        </p:blipFill>
        <p:spPr>
          <a:xfrm>
            <a:off x="4951440" y="5486400"/>
            <a:ext cx="1396800" cy="1046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https://encrypted-tbn3.gstatic.com/images?q=tbn:ANd9GcS7smTdTHegmzRKh5WhmM05OEplBShtkJrGgnFo7sp5JxesuC0VRg"/>
          <p:cNvPicPr/>
          <p:nvPr/>
        </p:nvPicPr>
        <p:blipFill>
          <a:blip r:embed="rId5"/>
          <a:stretch/>
        </p:blipFill>
        <p:spPr>
          <a:xfrm>
            <a:off x="8238960" y="5451480"/>
            <a:ext cx="1649520" cy="109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https://encrypted-tbn1.gstatic.com/images?q=tbn:ANd9GcQjwe6BS__wAtXWh3OK2hMfxoOVe_L0yHg5xO8wbTGqKGlybItL"/>
          <p:cNvPicPr/>
          <p:nvPr/>
        </p:nvPicPr>
        <p:blipFill>
          <a:blip r:embed="rId6"/>
          <a:stretch/>
        </p:blipFill>
        <p:spPr>
          <a:xfrm>
            <a:off x="10125000" y="5403960"/>
            <a:ext cx="1758960" cy="117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https://encrypted-tbn3.gstatic.com/images?q=tbn:ANd9GcQ1EWcz1JzdlbQae0BQ1bsdEU17UDzxuT81osapB7uhz9lPqVhvoQ"/>
          <p:cNvPicPr/>
          <p:nvPr/>
        </p:nvPicPr>
        <p:blipFill>
          <a:blip r:embed="rId7"/>
          <a:stretch/>
        </p:blipFill>
        <p:spPr>
          <a:xfrm>
            <a:off x="10549080" y="92160"/>
            <a:ext cx="1334880" cy="1751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6" descr="https://encrypted-tbn1.gstatic.com/images?q=tbn:ANd9GcRZ5WH4iQj5V5tK2wf8mvRHkHcK0QGWcrmGsduw-HqEMJcch7OJ"/>
          <p:cNvPicPr/>
          <p:nvPr/>
        </p:nvPicPr>
        <p:blipFill>
          <a:blip r:embed="rId8"/>
          <a:stretch/>
        </p:blipFill>
        <p:spPr>
          <a:xfrm>
            <a:off x="8962920" y="106200"/>
            <a:ext cx="1335240" cy="1729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0" descr="http://2.bp.blogspot.com/-iT4iDK5XYhg/UST3QcTc4bI/AAAAAAAACCk/Hb_ykIC2_ps/s1600/povrtnjak+proljece+2012+(3).JPG"/>
          <p:cNvPicPr/>
          <p:nvPr/>
        </p:nvPicPr>
        <p:blipFill>
          <a:blip r:embed="rId9"/>
          <a:stretch/>
        </p:blipFill>
        <p:spPr>
          <a:xfrm>
            <a:off x="9925200" y="2422440"/>
            <a:ext cx="192852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6" descr="https://encrypted-tbn0.gstatic.com/images?q=tbn:ANd9GcSnwxxeh1lVHzuqGDZ8q9GD0-LlAoBzCoE_WPst806toMWJuajG"/>
          <p:cNvPicPr/>
          <p:nvPr/>
        </p:nvPicPr>
        <p:blipFill>
          <a:blip r:embed="rId10"/>
          <a:stretch/>
        </p:blipFill>
        <p:spPr>
          <a:xfrm>
            <a:off x="6502320" y="5457960"/>
            <a:ext cx="1405080" cy="1052280"/>
          </a:xfrm>
          <a:prstGeom prst="rect">
            <a:avLst/>
          </a:prstGeom>
          <a:ln w="0">
            <a:noFill/>
          </a:ln>
        </p:spPr>
      </p:pic>
      <p:sp>
        <p:nvSpPr>
          <p:cNvPr id="75" name="Ravni poveznik 4"/>
          <p:cNvSpPr/>
          <p:nvPr/>
        </p:nvSpPr>
        <p:spPr>
          <a:xfrm flipV="1">
            <a:off x="1023840" y="4730400"/>
            <a:ext cx="6762960" cy="52200"/>
          </a:xfrm>
          <a:prstGeom prst="line">
            <a:avLst/>
          </a:prstGeom>
          <a:ln w="6480">
            <a:solidFill>
              <a:srgbClr val="418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1. Izbor teme - odgojitelj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zabrana tema pokazuje razumijevanje potreba i interesa 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epoznaje njihov značaj u kontekstu života u skupini i ustan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mpetentan je za bavljenje tem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https://encrypted-tbn2.gstatic.com/images?q=tbn:ANd9GcTeTuvRPcbxTYkmWjD1csKUA5JNn7U8SvFMkXy2NqS8M_PFvfeRJw"/>
          <p:cNvPicPr/>
          <p:nvPr/>
        </p:nvPicPr>
        <p:blipFill>
          <a:blip r:embed="rId1"/>
          <a:stretch/>
        </p:blipFill>
        <p:spPr>
          <a:xfrm>
            <a:off x="10618920" y="114480"/>
            <a:ext cx="1197000" cy="1769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https://encrypted-tbn1.gstatic.com/images?q=tbn:ANd9GcSJfkmRaeJrlZTGqZByE94VigJWE_PyacB8Z94QwEp-uuFMXAk2OQ"/>
          <p:cNvPicPr/>
          <p:nvPr/>
        </p:nvPicPr>
        <p:blipFill>
          <a:blip r:embed="rId2"/>
          <a:stretch/>
        </p:blipFill>
        <p:spPr>
          <a:xfrm>
            <a:off x="9186840" y="160200"/>
            <a:ext cx="1295280" cy="172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https://encrypted-tbn2.gstatic.com/images?q=tbn:ANd9GcQdTi2dY-8zuknX6zGOh5_0CORVdOu3q4HNmCyou1nsmSW8zHt65A"/>
          <p:cNvPicPr/>
          <p:nvPr/>
        </p:nvPicPr>
        <p:blipFill>
          <a:blip r:embed="rId3"/>
          <a:stretch/>
        </p:blipFill>
        <p:spPr>
          <a:xfrm>
            <a:off x="608040" y="5213520"/>
            <a:ext cx="4172040" cy="109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4" descr="https://encrypted-tbn1.gstatic.com/images?q=tbn:ANd9GcSKAv51c3XYO_OAtKs0wJmogqIFxKXCQUcHcRUMIs28axFoFaT0xg"/>
          <p:cNvPicPr/>
          <p:nvPr/>
        </p:nvPicPr>
        <p:blipFill>
          <a:blip r:embed="rId4"/>
          <a:stretch/>
        </p:blipFill>
        <p:spPr>
          <a:xfrm>
            <a:off x="4892760" y="5141880"/>
            <a:ext cx="1869840" cy="116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https://encrypted-tbn1.gstatic.com/images?q=tbn:ANd9GcQwbBlnwJMh7lwyVYAkRlR-t2DIpmOMCqvVKVxAi6Z54IMylnEQ"/>
          <p:cNvPicPr/>
          <p:nvPr/>
        </p:nvPicPr>
        <p:blipFill>
          <a:blip r:embed="rId5"/>
          <a:stretch/>
        </p:blipFill>
        <p:spPr>
          <a:xfrm>
            <a:off x="6875640" y="5361120"/>
            <a:ext cx="1564920" cy="99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2" descr="https://encrypted-tbn2.gstatic.com/images?q=tbn:ANd9GcQy0rBjIuRwCue0DpinvysYaF9CfpkUvTsVgXjOOSWg6fXKBF-pgdXLftrK"/>
          <p:cNvPicPr/>
          <p:nvPr/>
        </p:nvPicPr>
        <p:blipFill>
          <a:blip r:embed="rId6"/>
          <a:stretch/>
        </p:blipFill>
        <p:spPr>
          <a:xfrm>
            <a:off x="8756640" y="5056200"/>
            <a:ext cx="229860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2. Aktivna uključenost djete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Stupanj djetetova sudjelovanja 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iciran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laniranj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ved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Aktivna uključenost djeteta u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važavanje potreba i mogućnosti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znavanje strategija aktivnog uč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kladnu organizaciju rada na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s://encrypted-tbn1.gstatic.com/images?q=tbn:ANd9GcSDX_5qeIFmeKWSXsJuyqwfZr6sU4UvzBVEMHkGjFw9vIL523aLDQ"/>
          <p:cNvPicPr/>
          <p:nvPr/>
        </p:nvPicPr>
        <p:blipFill>
          <a:blip r:embed="rId1"/>
          <a:stretch/>
        </p:blipFill>
        <p:spPr>
          <a:xfrm>
            <a:off x="7872480" y="1825560"/>
            <a:ext cx="35989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3. Materijalno i interakcijsko okruženj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09760" y="2179440"/>
            <a:ext cx="10843920" cy="400356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d0d0d"/>
                </a:solidFill>
                <a:latin typeface="Calibri"/>
              </a:rPr>
              <a:t>Materijal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pseg i relevantnost potic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dukt istraživačkog rada odraslih i 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nterakcijs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Inicijativa i aktivnost djetet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užanje pomoći samo kad je potreb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uradnički odnos s drugima u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817200"/>
            <a:ext cx="4187880" cy="443700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 Light"/>
              </a:rPr>
              <a:t>Projekt u dječjem vrtiću uvijek: </a:t>
            </a: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ff0000"/>
                </a:solidFill>
                <a:latin typeface="Calibri Light"/>
              </a:rPr>
              <a:t>Uključuje materijalni kontekst i odnose</a:t>
            </a: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000000"/>
                </a:solidFill>
                <a:latin typeface="Calibri Light"/>
              </a:rPr>
              <a:t>Treba se istodobno usmjeriti na oboj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04080" y="817200"/>
            <a:ext cx="5473440" cy="443700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ljučn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buClr>
                <a:srgbClr val="418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18ab3"/>
                </a:solidFill>
                <a:latin typeface="Arial"/>
                <a:ea typeface="Arial"/>
              </a:rPr>
              <a:t>Iskustveno učenj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buClr>
                <a:srgbClr val="418a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18ab3"/>
                </a:solidFill>
                <a:latin typeface="Arial"/>
                <a:ea typeface="Arial"/>
              </a:rPr>
              <a:t>Sudjelovanj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pasno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Zaboraviti da se polazi od djeteta i da je aktivnost djeteta bit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42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4. Kreativno izražavanje i konstruktivno </a:t>
            </a: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ponašanje djete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418ab3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Novi oblici ponašanja i komunikacije (nova znanja i vješt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imjenjivost u svakodnevnom živo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zitivno ozra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icanje izražavanja i iniciranje iskazivanja prosocijalnih vješ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 Light"/>
              </a:rPr>
              <a:t>5. Na kraju projekt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19000" y="1564920"/>
            <a:ext cx="1055376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Vidi se što je naučeno sa stajališ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jete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Odgojitel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rugih surad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Doprinosi promjenama koje utječu na kvalitetu života i cjelokupnog ozračja skupine ili ustan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otiče na nove istraživačke ili projektne t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adrži prateće materijale o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168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Projekt se predstavlja jasno i atraktivn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6T18:51:44Z</dcterms:created>
  <dc:creator>Mirjana</dc:creator>
  <dc:description/>
  <dc:language>en-US</dc:language>
  <cp:lastModifiedBy>Kolovare</cp:lastModifiedBy>
  <dcterms:modified xsi:type="dcterms:W3CDTF">2019-05-15T12:15:59Z</dcterms:modified>
  <cp:revision>47</cp:revision>
  <dc:subject/>
  <dc:title>Smotra projekata iz područja Nacionalnog programa odgoja i obrazovanja za ljudska prava i demokratsko građenstvo Regionalna smotra u Rijeci, 21.3.2014.   Kriteriji vrednovanja projekta</dc:title>
</cp:coreProperties>
</file>