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87B-868A-41C6-8FB4-E411A831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D6D-9FD6-4282-A7D3-97CBBA55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75E7-2CBB-49EC-BA20-AEA8EFC7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26C-D365-4439-A046-5B0634E4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63E-2EAB-4CB6-89C9-BD89AA53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24E-6570-49C5-AC6A-DFE67F45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CE2-55AE-4B6B-9095-08471D29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4FD-5E0C-47F4-B6F4-88CE5F4E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DC4-6E13-4E00-A137-768651FC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788-765E-45A3-A2E1-6589A7C7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E51-076E-4FBE-A8E3-F106357F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0AC-7CD5-45FC-AF96-F67DBB7F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84EA-18AE-4438-B122-96EC91188D58}" type="slidenum">
              <a:rPr b="0" lang="hr-HR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115560"/>
            <a:ext cx="840564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Agencija za odgoj i obrazov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Zadar, 15.-17. svibnja 2019.</a:t>
            </a:r>
            <a:br>
              <a:rPr sz="1600"/>
            </a:br>
            <a:r>
              <a:rPr b="0" lang="hr-HR" sz="1600" spc="-1" strike="noStrike">
                <a:solidFill>
                  <a:srgbClr val="0070c0"/>
                </a:solidFill>
                <a:latin typeface="Arial"/>
                <a:ea typeface="Arial"/>
              </a:rPr>
              <a:t>Državna smotra projekata </a:t>
            </a:r>
            <a:br>
              <a:rPr sz="16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u području Nacionalnog programa odgoja i obrazovanja za ljudska prava i demokratsko građanstvo Vlade Republike Hrvatske </a:t>
            </a:r>
            <a:br>
              <a:rPr sz="1400"/>
            </a:br>
            <a:r>
              <a:rPr b="0" i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za rani i predškolski odgoj i obrazovanje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820800" y="3284640"/>
            <a:ext cx="75438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2930400" y="517536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f. dr. sc. Ivanka Stričev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eučilište u Zad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jel za informacijske zna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"/>
          <p:cNvSpPr/>
          <p:nvPr/>
        </p:nvSpPr>
        <p:spPr>
          <a:xfrm>
            <a:off x="1692360" y="3068640"/>
            <a:ext cx="561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70c0"/>
                </a:solidFill>
                <a:latin typeface="Arial"/>
              </a:rPr>
              <a:t>Planiranje i provođenje projek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Image result for &quot;nacionalni program odgoja i obrazovanja za ljudska prava&quot;"/>
          <p:cNvPicPr/>
          <p:nvPr/>
        </p:nvPicPr>
        <p:blipFill>
          <a:blip r:embed=""/>
          <a:stretch/>
        </p:blipFill>
        <p:spPr>
          <a:xfrm>
            <a:off x="539640" y="189000"/>
            <a:ext cx="2000520" cy="30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Image result for &quot;nacionalni program odgoja i obrazovanja za ljudska prava&quot;"/>
          <p:cNvPicPr/>
          <p:nvPr/>
        </p:nvPicPr>
        <p:blipFill>
          <a:blip r:embed=""/>
          <a:stretch/>
        </p:blipFill>
        <p:spPr>
          <a:xfrm>
            <a:off x="6804000" y="3789360"/>
            <a:ext cx="2133720" cy="2857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3203640" y="692280"/>
            <a:ext cx="331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Nacionalni kurikulum za rani i predškolski odgoj i obrazovanj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stvaranje uvjeta i poticanje djeteta na pozitivan stav prema sebi i drugima, odgovorno ponašanje, uzajamno pomaganje, prihvaćanje i poštovanje, poštivanje različitosti, samopoštovanje i osposobljavanje za učinkovito sudjelovanje u razvoju demokratskih odnosa u vrtiću, zajednici i društvu na načelima pravednosti i mirotvorst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0" y="587700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dnos: 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ljudska prava – odgoj o obrazovanje za demokratsko građanstv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6916680" y="689040"/>
            <a:ext cx="1908360" cy="18000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smo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eduk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43240" y="260280"/>
            <a:ext cx="2874960" cy="621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3152880" cy="628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rcRect l="0" t="0" r="0" b="5237"/>
          <a:stretch/>
        </p:blipFill>
        <p:spPr>
          <a:xfrm>
            <a:off x="1095480" y="1844640"/>
            <a:ext cx="2916000" cy="6021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5580000" y="765000"/>
            <a:ext cx="31608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5"/>
          <a:stretch/>
        </p:blipFill>
        <p:spPr>
          <a:xfrm>
            <a:off x="3867120" y="1989000"/>
            <a:ext cx="2916360" cy="62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Calibri"/>
              </a:rPr>
              <a:t>Projektni ra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Jedna od strategi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Izniman potencijal u ovom područ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1295280" y="3645000"/>
            <a:ext cx="6553440" cy="1944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Projek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hr-HR" sz="2400" spc="-1" strike="noStrike">
                <a:solidFill>
                  <a:srgbClr val="ffffff"/>
                </a:solidFill>
                <a:latin typeface="Calibri"/>
              </a:rPr>
              <a:t>strategija koja omogućava da se do ishoda dolazi planski, a ne (samo) sretnim sluča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6799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3200" spc="-1" strike="noStrike">
                <a:solidFill>
                  <a:srgbClr val="0070c0"/>
                </a:solidFill>
                <a:latin typeface="Calibri Light"/>
              </a:rPr>
              <a:t>Zašto projekt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2720" y="1600200"/>
            <a:ext cx="81532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rojekt je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svaki zaokružen, cjelovit i složen pothvat čiji su cilj i dinamika definirani, a ostvaruje se u određenom vremenu, te zahtijeva koordinirane napore nekoliko ili većeg broja ljudi, službi …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Za razliku od bilo kojeg programa ili aktivnosti, projekt je točno vremenski određen i provodi se prema planiranim koracima – znamo što želimo postići, kako ćemo do toga doći i kako ćemo vrednovati postignuć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Postignuća u radu na projektima rezultat su planskih akcija, a ne povremenih iskoraka i slučaj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Njegova kompleksnost proizlazi iz primjene niza različitih metoda i aktivnosti koje vode cil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Uključeno je više dio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Rješavaju se konkretni problemi (pitan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Slika 1" descr=""/>
          <p:cNvPicPr/>
          <p:nvPr/>
        </p:nvPicPr>
        <p:blipFill>
          <a:blip r:embed="rId1"/>
          <a:stretch/>
        </p:blipFill>
        <p:spPr>
          <a:xfrm>
            <a:off x="5076720" y="4646520"/>
            <a:ext cx="429912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2920" y="189000"/>
            <a:ext cx="6986520" cy="12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3200" spc="-1" strike="noStrike">
                <a:solidFill>
                  <a:srgbClr val="0070c0"/>
                </a:solidFill>
                <a:latin typeface="Calibri Light"/>
              </a:rPr>
              <a:t>Što djeca uče radom na projektu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125360"/>
            <a:ext cx="673272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ts val="1998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alibri"/>
              </a:rPr>
              <a:t>Rad na projektu omogućav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učenje koje polazi od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neposrednog iskustva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i poticaja iz okruženja; nadogradnju na postojeć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vorena pitanja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ublje razumijevan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čenja usmjeravanjem na značajna pitanja i probl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vajanje znanja i razumijevanje koncepata koji kada su naučeni, omogućavaju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imjen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što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djeci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je razloge za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daljnje učen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čenje istraživanjem i stvaranje novih idej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obrazloženja i načina kako prezetirati svoj r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očavanje 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cjenom i kritik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kazivanje stavova i mišlje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ošenje odluk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 temelju izbora i svijest o odgovornosti za vlastite odluke što djeluje na svjesno angažiranje u učenj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zvoj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ritičkog mišljenja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zastupanj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lastitog mišljenja i ide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razvoj </a:t>
            </a: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humanih vrijednosti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(bez suradnje nema projekta!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ts val="1998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2"/>
          <p:cNvSpPr/>
          <p:nvPr/>
        </p:nvSpPr>
        <p:spPr>
          <a:xfrm>
            <a:off x="7020000" y="906480"/>
            <a:ext cx="1873080" cy="18003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kultura particip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3"/>
          <p:cNvSpPr/>
          <p:nvPr/>
        </p:nvSpPr>
        <p:spPr>
          <a:xfrm>
            <a:off x="7667640" y="2809800"/>
            <a:ext cx="577800" cy="57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7020000" y="3573360"/>
            <a:ext cx="16556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oštovanje p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av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ihvaćanje prav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emokratsko odlučiva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dgovorno ponašanje prema sebi, drugima i zajedničk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kvalitetna komunikaci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rosocijalne vješ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sobni doprinos odnosima i postupc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1070280" y="638172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ishodi u afektivnom i kognitivnom područ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1"/>
          <p:cNvSpPr/>
          <p:nvPr/>
        </p:nvSpPr>
        <p:spPr>
          <a:xfrm>
            <a:off x="826920" y="620640"/>
            <a:ext cx="2665440" cy="25923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projekt kao strategija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"/>
          <p:cNvSpPr/>
          <p:nvPr/>
        </p:nvSpPr>
        <p:spPr>
          <a:xfrm>
            <a:off x="5651640" y="3860640"/>
            <a:ext cx="2665440" cy="25927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Calibri"/>
              </a:rPr>
              <a:t>smo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3348000" y="285264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mj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fleks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urved Down Arrow 5"/>
          <p:cNvSpPr/>
          <p:nvPr/>
        </p:nvSpPr>
        <p:spPr>
          <a:xfrm rot="2126400">
            <a:off x="4066920" y="1197000"/>
            <a:ext cx="4249800" cy="1440000"/>
          </a:xfrm>
          <a:custGeom>
            <a:avLst/>
            <a:gdLst>
              <a:gd name="textAreaLeft" fmla="*/ 927360 w 4249800"/>
              <a:gd name="textAreaRight" fmla="*/ 3142440 w 424980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27" hR="21600" stAng="10800000" swAng="5400000"/>
                <a:lnTo>
                  <a:pt x="11258" y="0"/>
                </a:lnTo>
                <a:arcTo wR="9427" hR="21600" stAng="-5400000" swAng="3563464"/>
                <a:lnTo>
                  <a:pt x="21301" y="16200"/>
                </a:lnTo>
                <a:lnTo>
                  <a:pt x="19770" y="21600"/>
                </a:lnTo>
                <a:lnTo>
                  <a:pt x="17640" y="16200"/>
                </a:lnTo>
                <a:lnTo>
                  <a:pt x="18555" y="16200"/>
                </a:lnTo>
                <a:arcTo wR="9427" hR="21600" stAng="-1836536" swAng="-3417154"/>
                <a:lnTo>
                  <a:pt x="10343" y="102"/>
                </a:lnTo>
                <a:arcTo wR="9427" hR="21600" stAng="-5546310" swAng="-5253690"/>
                <a:close/>
              </a:path>
              <a:path fill="darkenLess" w="21600" h="21600">
                <a:moveTo>
                  <a:pt x="0" y="21600"/>
                </a:moveTo>
                <a:arcTo wR="9427" hR="21600" stAng="10800000" swAng="5400000"/>
                <a:lnTo>
                  <a:pt x="9427" y="0"/>
                </a:lnTo>
                <a:arcTo wR="9427" hR="21600" stAng="-5400000" swAng="146310"/>
                <a:lnTo>
                  <a:pt x="10343" y="102"/>
                </a:lnTo>
                <a:arcTo wR="9427" hR="21600" stAng="-5546310" swAng="-5253690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urved Down Arrow 6"/>
          <p:cNvSpPr/>
          <p:nvPr/>
        </p:nvSpPr>
        <p:spPr>
          <a:xfrm rot="12855000">
            <a:off x="778680" y="4436640"/>
            <a:ext cx="4248360" cy="1440000"/>
          </a:xfrm>
          <a:custGeom>
            <a:avLst/>
            <a:gdLst>
              <a:gd name="textAreaLeft" fmla="*/ 927000 w 4248360"/>
              <a:gd name="textAreaRight" fmla="*/ 3141360 w 424836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27" hR="21600" stAng="10800000" swAng="5400000"/>
                <a:lnTo>
                  <a:pt x="11258" y="0"/>
                </a:lnTo>
                <a:arcTo wR="9427" hR="21600" stAng="-5400000" swAng="3563464"/>
                <a:lnTo>
                  <a:pt x="21301" y="16200"/>
                </a:lnTo>
                <a:lnTo>
                  <a:pt x="19770" y="21600"/>
                </a:lnTo>
                <a:lnTo>
                  <a:pt x="17640" y="16200"/>
                </a:lnTo>
                <a:lnTo>
                  <a:pt x="18555" y="16200"/>
                </a:lnTo>
                <a:arcTo wR="9427" hR="21600" stAng="-1836536" swAng="-3417154"/>
                <a:lnTo>
                  <a:pt x="10343" y="102"/>
                </a:lnTo>
                <a:arcTo wR="9427" hR="21600" stAng="-5546310" swAng="-5253690"/>
                <a:close/>
              </a:path>
              <a:path fill="darkenLess" w="21600" h="21600">
                <a:moveTo>
                  <a:pt x="0" y="21600"/>
                </a:moveTo>
                <a:arcTo wR="9427" hR="21600" stAng="10800000" swAng="5400000"/>
                <a:lnTo>
                  <a:pt x="9427" y="0"/>
                </a:lnTo>
                <a:arcTo wR="9427" hR="21600" stAng="-5400000" swAng="146310"/>
                <a:lnTo>
                  <a:pt x="10343" y="102"/>
                </a:lnTo>
                <a:arcTo wR="9427" hR="21600" stAng="-5546310" swAng="-5253690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4:06:34Z</dcterms:created>
  <dc:creator>Dubravka Males</dc:creator>
  <dc:description/>
  <dc:language>en-US</dc:language>
  <cp:lastModifiedBy>istricev@unizd.hr</cp:lastModifiedBy>
  <dcterms:modified xsi:type="dcterms:W3CDTF">2019-05-15T10:05:00Z</dcterms:modified>
  <cp:revision>80</cp:revision>
  <dc:subject/>
  <dc:title>Pravo djeteta na sudjelovanje</dc:title>
</cp:coreProperties>
</file>