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89B-4B14-4155-A4BA-9466A337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220-30F1-4E35-8F0D-11F712D5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EA4-AC4C-4FA0-8834-95B565BA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2FF-4601-43E5-9639-B5371053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0D6-338D-4301-BCB2-3B03AE86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F41-C311-4935-8C31-314C6CCF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CE3-BD8E-48E6-884D-324191DB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5EA-FC9C-40D0-9551-4747C6C5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B7D-33F1-4A0C-9AE2-1DD7EBAE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51F-294B-4D5B-B542-D3F40DF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C12-0753-4D51-A9EC-ACFC650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F13-910D-4F4D-BB9D-97FA4F53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e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A639A-7069-44EA-B1A3-5D20EBCD2BD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600" y="2408040"/>
            <a:ext cx="10572480" cy="227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hr-HR" sz="1600" spc="-1" strike="noStrike">
                <a:solidFill>
                  <a:srgbClr val="000000"/>
                </a:solidFill>
                <a:latin typeface="Calibri Light"/>
              </a:rPr>
              <a:t>DRŽAVNA SMOTRA PROJEKATA U PODRUČJU</a:t>
            </a:r>
            <a:br>
              <a:rPr sz="1600"/>
            </a:br>
            <a:r>
              <a:rPr b="1" lang="hr-HR" sz="1600" spc="-1" strike="noStrike">
                <a:solidFill>
                  <a:srgbClr val="000000"/>
                </a:solidFill>
                <a:latin typeface="Calibri Light"/>
              </a:rPr>
              <a:t>NACIONALNOG PROGRAMA ODGOJA I OBRAZOVANJA ZA LJUDSKA PRAVA</a:t>
            </a:r>
            <a:br>
              <a:rPr sz="1600"/>
            </a:br>
            <a:r>
              <a:rPr b="1" lang="hr-HR" sz="1600" spc="-1" strike="noStrike">
                <a:solidFill>
                  <a:srgbClr val="000000"/>
                </a:solidFill>
                <a:latin typeface="Calibri Light"/>
              </a:rPr>
              <a:t>I DEMOKRATSKO GRAĐANSTVO VLADE REPUBLIKE HRVATSK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Calibri Light"/>
              </a:rPr>
              <a:t>ZA RANI I PREDŠKOLSKI ODGOJ I OBRAZOVANJE</a:t>
            </a:r>
            <a:br>
              <a:rPr sz="1600"/>
            </a:br>
            <a:br>
              <a:rPr sz="1600"/>
            </a:br>
            <a:r>
              <a:rPr b="1" lang="hr-HR" sz="1600" spc="-1" strike="noStrike">
                <a:solidFill>
                  <a:srgbClr val="000000"/>
                </a:solidFill>
                <a:latin typeface="Calibri Light"/>
              </a:rPr>
              <a:t>Zadar, 15. do 17. svibnja 2019.   </a:t>
            </a:r>
            <a:br>
              <a:rPr sz="1600"/>
            </a:br>
            <a:r>
              <a:rPr b="1" lang="hr-HR" sz="16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hr-HR" sz="3600" spc="-1" strike="noStrike">
                <a:solidFill>
                  <a:srgbClr val="000000"/>
                </a:solidFill>
                <a:latin typeface="Calibri Light"/>
              </a:rPr>
              <a:t>Kriteriji vrednovanja projekata u području građanskog odgoja i obrazovanja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09280" y="5281200"/>
            <a:ext cx="1057284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irjana Milanović, pr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lika 3" descr=""/>
          <p:cNvPicPr/>
          <p:nvPr/>
        </p:nvPicPr>
        <p:blipFill>
          <a:blip r:embed="rId1"/>
          <a:stretch/>
        </p:blipFill>
        <p:spPr>
          <a:xfrm>
            <a:off x="10461600" y="299880"/>
            <a:ext cx="12733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0320" y="259920"/>
            <a:ext cx="10676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Dijete i dimenzije građanske kompetenci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76280" y="2752560"/>
            <a:ext cx="1857240" cy="503280"/>
          </a:xfrm>
          <a:prstGeom prst="rect">
            <a:avLst/>
          </a:prstGeom>
          <a:solidFill>
            <a:srgbClr val="418a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JA JESA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76280" y="3726000"/>
            <a:ext cx="1857240" cy="503280"/>
          </a:xfrm>
          <a:prstGeom prst="rect">
            <a:avLst/>
          </a:prstGeom>
          <a:solidFill>
            <a:srgbClr val="418a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JA MOGU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76280" y="4684680"/>
            <a:ext cx="1857240" cy="503280"/>
          </a:xfrm>
          <a:prstGeom prst="rect">
            <a:avLst/>
          </a:prstGeom>
          <a:solidFill>
            <a:srgbClr val="418a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JA IMA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938320" y="1208160"/>
            <a:ext cx="3343320" cy="72072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OLITIČK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ravila, pravednost, dem. odl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916360" y="2081160"/>
            <a:ext cx="3343320" cy="86364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DRUŠTVEN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komunikacija, socijalne vješti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upravljanje emocijama, sukobim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913120" y="3105000"/>
            <a:ext cx="3343320" cy="72072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LJUDSKO PRAVN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rava, zaštita, obvez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913120" y="3927600"/>
            <a:ext cx="3343320" cy="86508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OSPODARSK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avike, poštivanje rada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oduzetnišvo, rekla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913120" y="4932360"/>
            <a:ext cx="3343320" cy="79200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KULTUROLOŠK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Identitet, različitos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2454120" y="1886040"/>
            <a:ext cx="216000" cy="3959280"/>
          </a:xfrm>
          <a:custGeom>
            <a:avLst/>
            <a:gdLst>
              <a:gd name="textAreaLeft" fmla="*/ 0 w 216000"/>
              <a:gd name="textAreaRight" fmla="*/ 78120 w 216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6505560" y="1928880"/>
            <a:ext cx="216000" cy="3959280"/>
          </a:xfrm>
          <a:custGeom>
            <a:avLst/>
            <a:gdLst>
              <a:gd name="textAreaLeft" fmla="*/ 0 w 216000"/>
              <a:gd name="textAreaRight" fmla="*/ 78120 w 216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10064880" y="2925720"/>
            <a:ext cx="1965240" cy="21034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d0d0d"/>
                </a:solidFill>
                <a:latin typeface="Calibri"/>
              </a:rPr>
              <a:t>Željena aktivnos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d0d0d"/>
                </a:solidFill>
                <a:latin typeface="Calibri"/>
              </a:rPr>
              <a:t>djeteta kojom ć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d0d0d"/>
                </a:solidFill>
                <a:latin typeface="Calibri"/>
              </a:rPr>
              <a:t>demonstrirat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d0d0d"/>
                </a:solidFill>
                <a:latin typeface="Calibri"/>
              </a:rPr>
              <a:t>stečeno znanje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d0d0d"/>
                </a:solidFill>
                <a:latin typeface="Calibri"/>
              </a:rPr>
              <a:t>vještinu i stav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913120" y="5864400"/>
            <a:ext cx="3343320" cy="72072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KOLOŠK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štita okoliša, resursi, gosp. ot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6969240" y="1208160"/>
            <a:ext cx="2519280" cy="537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Calibri"/>
              </a:rPr>
              <a:t>Komeptencij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Ciljev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316886"/>
                </a:solidFill>
                <a:latin typeface="Calibri"/>
              </a:rPr>
              <a:t>Ishod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00b050"/>
                </a:solidFill>
                <a:latin typeface="Calibri"/>
              </a:rPr>
              <a:t>Izvori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00b050"/>
                </a:solidFill>
                <a:latin typeface="Calibri"/>
              </a:rPr>
              <a:t>Poučavanj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Provjera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ostvarenosti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ishod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Strelica udesno 1"/>
          <p:cNvSpPr/>
          <p:nvPr/>
        </p:nvSpPr>
        <p:spPr>
          <a:xfrm>
            <a:off x="9264600" y="2948040"/>
            <a:ext cx="696960" cy="3128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418ab3"/>
          </a:solidFill>
          <a:ln w="12600">
            <a:solidFill>
              <a:srgbClr val="2d6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10064880" y="1128600"/>
            <a:ext cx="1965240" cy="4381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d0d0d"/>
                </a:solidFill>
                <a:latin typeface="Calibri"/>
              </a:rPr>
              <a:t>sposobnos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Strelica udesno 17"/>
          <p:cNvSpPr/>
          <p:nvPr/>
        </p:nvSpPr>
        <p:spPr>
          <a:xfrm>
            <a:off x="9264600" y="2031840"/>
            <a:ext cx="696960" cy="3114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18ab3"/>
          </a:solidFill>
          <a:ln w="12600">
            <a:solidFill>
              <a:srgbClr val="2d6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Strelica udesno 18"/>
          <p:cNvSpPr/>
          <p:nvPr/>
        </p:nvSpPr>
        <p:spPr>
          <a:xfrm>
            <a:off x="9340920" y="1208160"/>
            <a:ext cx="696960" cy="31104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418ab3"/>
          </a:solidFill>
          <a:ln w="12600">
            <a:solidFill>
              <a:srgbClr val="2d6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0037880" y="1760400"/>
            <a:ext cx="1965240" cy="7891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d0d0d"/>
                </a:solidFill>
                <a:latin typeface="Calibri"/>
              </a:rPr>
              <a:t>Omogućiti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d0d0d"/>
                </a:solidFill>
                <a:latin typeface="Calibri"/>
              </a:rPr>
              <a:t>Poticati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1. Izbor teme - dijet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elevantna za život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blem se nalazi u središtu djetetovog inte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ješava aktualnu potreb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ezan uz prava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zvija vještine demokratskog građanst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s://encrypted-tbn1.gstatic.com/images?q=tbn:ANd9GcQKvCENMZwDO34E9W4m0TxFX6h1eIwvzooF3XYc3-DYhRn-j25DC-5tVMZo"/>
          <p:cNvPicPr/>
          <p:nvPr/>
        </p:nvPicPr>
        <p:blipFill>
          <a:blip r:embed="rId1"/>
          <a:stretch/>
        </p:blipFill>
        <p:spPr>
          <a:xfrm>
            <a:off x="2017800" y="540396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s://encrypted-tbn2.gstatic.com/images?q=tbn:ANd9GcTT4Q4q42EaMatxqCDTMT2GegZbP1PKqna96iM3WkzHa9gYQBOFyA"/>
          <p:cNvPicPr/>
          <p:nvPr/>
        </p:nvPicPr>
        <p:blipFill>
          <a:blip r:embed="rId2"/>
          <a:stretch/>
        </p:blipFill>
        <p:spPr>
          <a:xfrm>
            <a:off x="271440" y="5403960"/>
            <a:ext cx="1506600" cy="1128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s://encrypted-tbn3.gstatic.com/images?q=tbn:ANd9GcQlPHCbT84sc9hXYvY7INcoGuWRQfU3oulkwYzPu-MoAK5CJd0csw"/>
          <p:cNvPicPr/>
          <p:nvPr/>
        </p:nvPicPr>
        <p:blipFill>
          <a:blip r:embed="rId3"/>
          <a:stretch/>
        </p:blipFill>
        <p:spPr>
          <a:xfrm>
            <a:off x="3503520" y="5403960"/>
            <a:ext cx="129240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RlNAKOjkgW3VsrP0P3DOdysRDbDwdEfHQ4-qke6igdSukSNiAD9g"/>
          <p:cNvPicPr/>
          <p:nvPr/>
        </p:nvPicPr>
        <p:blipFill>
          <a:blip r:embed="rId4"/>
          <a:stretch/>
        </p:blipFill>
        <p:spPr>
          <a:xfrm>
            <a:off x="4951440" y="5486400"/>
            <a:ext cx="1396800" cy="104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https://encrypted-tbn3.gstatic.com/images?q=tbn:ANd9GcS7smTdTHegmzRKh5WhmM05OEplBShtkJrGgnFo7sp5JxesuC0VRg"/>
          <p:cNvPicPr/>
          <p:nvPr/>
        </p:nvPicPr>
        <p:blipFill>
          <a:blip r:embed="rId5"/>
          <a:stretch/>
        </p:blipFill>
        <p:spPr>
          <a:xfrm>
            <a:off x="8238960" y="5451480"/>
            <a:ext cx="164952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https://encrypted-tbn1.gstatic.com/images?q=tbn:ANd9GcQjwe6BS__wAtXWh3OK2hMfxoOVe_L0yHg5xO8wbTGqKGlybItL"/>
          <p:cNvPicPr/>
          <p:nvPr/>
        </p:nvPicPr>
        <p:blipFill>
          <a:blip r:embed="rId6"/>
          <a:stretch/>
        </p:blipFill>
        <p:spPr>
          <a:xfrm>
            <a:off x="10125000" y="5403960"/>
            <a:ext cx="175896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https://encrypted-tbn3.gstatic.com/images?q=tbn:ANd9GcQ1EWcz1JzdlbQae0BQ1bsdEU17UDzxuT81osapB7uhz9lPqVhvoQ"/>
          <p:cNvPicPr/>
          <p:nvPr/>
        </p:nvPicPr>
        <p:blipFill>
          <a:blip r:embed="rId7"/>
          <a:stretch/>
        </p:blipFill>
        <p:spPr>
          <a:xfrm>
            <a:off x="10549080" y="92160"/>
            <a:ext cx="1334880" cy="1751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https://encrypted-tbn1.gstatic.com/images?q=tbn:ANd9GcRZ5WH4iQj5V5tK2wf8mvRHkHcK0QGWcrmGsduw-HqEMJcch7OJ"/>
          <p:cNvPicPr/>
          <p:nvPr/>
        </p:nvPicPr>
        <p:blipFill>
          <a:blip r:embed="rId8"/>
          <a:stretch/>
        </p:blipFill>
        <p:spPr>
          <a:xfrm>
            <a:off x="8962920" y="106200"/>
            <a:ext cx="1335240" cy="1729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0" descr="http://2.bp.blogspot.com/-iT4iDK5XYhg/UST3QcTc4bI/AAAAAAAACCk/Hb_ykIC2_ps/s1600/povrtnjak+proljece+2012+(3).JPG"/>
          <p:cNvPicPr/>
          <p:nvPr/>
        </p:nvPicPr>
        <p:blipFill>
          <a:blip r:embed="rId9"/>
          <a:stretch/>
        </p:blipFill>
        <p:spPr>
          <a:xfrm>
            <a:off x="9925200" y="2422440"/>
            <a:ext cx="192852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6" descr="https://encrypted-tbn0.gstatic.com/images?q=tbn:ANd9GcSnwxxeh1lVHzuqGDZ8q9GD0-LlAoBzCoE_WPst806toMWJuajG"/>
          <p:cNvPicPr/>
          <p:nvPr/>
        </p:nvPicPr>
        <p:blipFill>
          <a:blip r:embed="rId10"/>
          <a:stretch/>
        </p:blipFill>
        <p:spPr>
          <a:xfrm>
            <a:off x="6502320" y="5457960"/>
            <a:ext cx="1405080" cy="1052280"/>
          </a:xfrm>
          <a:prstGeom prst="rect">
            <a:avLst/>
          </a:prstGeom>
          <a:ln w="0">
            <a:noFill/>
          </a:ln>
        </p:spPr>
      </p:pic>
      <p:sp>
        <p:nvSpPr>
          <p:cNvPr id="75" name="Ravni poveznik 4"/>
          <p:cNvSpPr/>
          <p:nvPr/>
        </p:nvSpPr>
        <p:spPr>
          <a:xfrm flipV="1">
            <a:off x="1023840" y="4730400"/>
            <a:ext cx="6762960" cy="52200"/>
          </a:xfrm>
          <a:prstGeom prst="line">
            <a:avLst/>
          </a:prstGeom>
          <a:ln w="648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1. Izbor teme - odgojitelj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zabrana tema pokazuje razumijevanje potreba i interesa 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epoznaje njihov značaj u kontekstu života u skupini i ustano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mpetentan je za bavljenje tem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https://encrypted-tbn2.gstatic.com/images?q=tbn:ANd9GcTeTuvRPcbxTYkmWjD1csKUA5JNn7U8SvFMkXy2NqS8M_PFvfeRJw"/>
          <p:cNvPicPr/>
          <p:nvPr/>
        </p:nvPicPr>
        <p:blipFill>
          <a:blip r:embed="rId1"/>
          <a:stretch/>
        </p:blipFill>
        <p:spPr>
          <a:xfrm>
            <a:off x="10618920" y="114480"/>
            <a:ext cx="1197000" cy="1769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https://encrypted-tbn1.gstatic.com/images?q=tbn:ANd9GcSJfkmRaeJrlZTGqZByE94VigJWE_PyacB8Z94QwEp-uuFMXAk2OQ"/>
          <p:cNvPicPr/>
          <p:nvPr/>
        </p:nvPicPr>
        <p:blipFill>
          <a:blip r:embed="rId2"/>
          <a:stretch/>
        </p:blipFill>
        <p:spPr>
          <a:xfrm>
            <a:off x="9186840" y="160200"/>
            <a:ext cx="1295280" cy="172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https://encrypted-tbn2.gstatic.com/images?q=tbn:ANd9GcQdTi2dY-8zuknX6zGOh5_0CORVdOu3q4HNmCyou1nsmSW8zHt65A"/>
          <p:cNvPicPr/>
          <p:nvPr/>
        </p:nvPicPr>
        <p:blipFill>
          <a:blip r:embed="rId3"/>
          <a:stretch/>
        </p:blipFill>
        <p:spPr>
          <a:xfrm>
            <a:off x="608040" y="5213520"/>
            <a:ext cx="4172040" cy="109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4" descr="https://encrypted-tbn1.gstatic.com/images?q=tbn:ANd9GcSKAv51c3XYO_OAtKs0wJmogqIFxKXCQUcHcRUMIs28axFoFaT0xg"/>
          <p:cNvPicPr/>
          <p:nvPr/>
        </p:nvPicPr>
        <p:blipFill>
          <a:blip r:embed="rId4"/>
          <a:stretch/>
        </p:blipFill>
        <p:spPr>
          <a:xfrm>
            <a:off x="4892760" y="5141880"/>
            <a:ext cx="1869840" cy="116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https://encrypted-tbn1.gstatic.com/images?q=tbn:ANd9GcQwbBlnwJMh7lwyVYAkRlR-t2DIpmOMCqvVKVxAi6Z54IMylnEQ"/>
          <p:cNvPicPr/>
          <p:nvPr/>
        </p:nvPicPr>
        <p:blipFill>
          <a:blip r:embed="rId5"/>
          <a:stretch/>
        </p:blipFill>
        <p:spPr>
          <a:xfrm>
            <a:off x="6875640" y="5361120"/>
            <a:ext cx="1564920" cy="99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2" descr="https://encrypted-tbn2.gstatic.com/images?q=tbn:ANd9GcQy0rBjIuRwCue0DpinvysYaF9CfpkUvTsVgXjOOSWg6fXKBF-pgdXLftrK"/>
          <p:cNvPicPr/>
          <p:nvPr/>
        </p:nvPicPr>
        <p:blipFill>
          <a:blip r:embed="rId6"/>
          <a:stretch/>
        </p:blipFill>
        <p:spPr>
          <a:xfrm>
            <a:off x="8756640" y="5056200"/>
            <a:ext cx="229860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2. Aktivna uključenost djete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Stupanj djetetova sudjelovanja 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niciran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laniran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ved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Aktivna uključenost djeteta u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važavanje potreba i mogućnosti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znavanje strategija aktivnog uč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ikladnu organizaciju rada na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s://encrypted-tbn1.gstatic.com/images?q=tbn:ANd9GcSDX_5qeIFmeKWSXsJuyqwfZr6sU4UvzBVEMHkGjFw9vIL523aLDQ"/>
          <p:cNvPicPr/>
          <p:nvPr/>
        </p:nvPicPr>
        <p:blipFill>
          <a:blip r:embed="rId1"/>
          <a:stretch/>
        </p:blipFill>
        <p:spPr>
          <a:xfrm>
            <a:off x="7872480" y="1825560"/>
            <a:ext cx="35989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3. Materijalno i interakcijsko okruženj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9760" y="2179440"/>
            <a:ext cx="10843920" cy="400356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d0d0d"/>
                </a:solidFill>
                <a:latin typeface="Calibri"/>
              </a:rPr>
              <a:t>Materijal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pseg i relevantnost potic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dukt istraživačkog rada odraslih i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nterakcijs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nicijativa i aktivnost djetet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užanje pomoći samo kad je potreb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uradnički odnos s drugima u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817200"/>
            <a:ext cx="4187880" cy="443700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 Light"/>
              </a:rPr>
              <a:t>Projekt u dječjem vrtiću uvijek: </a:t>
            </a: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ff0000"/>
                </a:solidFill>
                <a:latin typeface="Calibri Light"/>
              </a:rPr>
              <a:t>Uključuje materijalni kontekst i odnose</a:t>
            </a: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Calibri Light"/>
              </a:rPr>
              <a:t>Treba se istodobno usmjeriti na oboj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04080" y="817200"/>
            <a:ext cx="5473440" cy="443700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ljučn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499"/>
              </a:spcBef>
              <a:buClr>
                <a:srgbClr val="418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18ab3"/>
                </a:solidFill>
                <a:latin typeface="Arial"/>
                <a:ea typeface="Arial"/>
              </a:rPr>
              <a:t>Iskustveno učenj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499"/>
              </a:spcBef>
              <a:buClr>
                <a:srgbClr val="418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18ab3"/>
                </a:solidFill>
                <a:latin typeface="Arial"/>
                <a:ea typeface="Arial"/>
              </a:rPr>
              <a:t>Sudjelovanj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pasno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aboraviti da se polazi od djeteta i da je aktivnost djeteta bit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4. Kreativno izražavanje i konstruktivno </a:t>
            </a: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ponašanje djete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ovi oblici ponašanja i komunikacije (nova znanja i vješt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imjenjivost u svakodnevnom živo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zitivno ozra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icanje izražavanja i iniciranje iskazivanja prosocijalnih vješ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5. Na kraju projek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19000" y="1564920"/>
            <a:ext cx="1055376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idi se što je naučeno sa stajališ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dgojitel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rugih sura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oprinosi promjenama koje utječu na kvalitetu života i cjelokupnog ozračja skupine ili ustan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iče na nove istraživačke ili projektne t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adrži prateće materijale o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jekt se predstavlja jasno i atraktiv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18:51:44Z</dcterms:created>
  <dc:creator>Mirjana</dc:creator>
  <dc:description/>
  <dc:language>en-US</dc:language>
  <cp:lastModifiedBy>Kolovare</cp:lastModifiedBy>
  <dcterms:modified xsi:type="dcterms:W3CDTF">2019-05-15T12:15:59Z</dcterms:modified>
  <cp:revision>47</cp:revision>
  <dc:subject/>
  <dc:title>Smotra projekata iz područja Nacionalnog programa odgoja i obrazovanja za ljudska prava i demokratsko građenstvo Regionalna smotra u Rijeci, 21.3.2014.   Kriteriji vrednovanja projekta</dc:title>
</cp:coreProperties>
</file>