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328-163E-46C4-9D48-F0D71B6E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FF6-5490-42D8-8196-026D33E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6FB-5EC2-4988-9F05-00B6F676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F74-AD51-44F3-AD80-1A599D50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672-7877-4FDF-9C8E-E7D9E38A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1A8-7049-4BBD-9855-1329016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2A6-564F-43E4-AA07-87845AC2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C53-3803-4A2E-9FD6-4824BD58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B3B-A25B-4780-8427-309EC7D5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EDB-BAE4-45AD-AB5A-611E3DD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7D3-8065-4F8D-8247-CFC659E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771-2DFE-43F6-9AC8-0B4E0A1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CBA5-6259-40A3-AF99-E9C5D0FED073}" type="slidenum">
              <a:rPr b="0" lang="hr-H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115560"/>
            <a:ext cx="8405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Agencija za odgoj i obrazov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Zadar, 15.-17. svibnja 2019.</a:t>
            </a:r>
            <a:br>
              <a:rPr sz="1600"/>
            </a:br>
            <a:r>
              <a:rPr b="0" lang="hr-HR" sz="1600" spc="-1" strike="noStrike">
                <a:solidFill>
                  <a:srgbClr val="0070c0"/>
                </a:solidFill>
                <a:latin typeface="Arial"/>
                <a:ea typeface="Arial"/>
              </a:rPr>
              <a:t>Državna smotra projekata </a:t>
            </a:r>
            <a:br>
              <a:rPr sz="16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u području Nacionalnog programa odgoja i obrazovanja za ljudska prava i demokratsko građanstvo Vlade Republike Hrvatske </a:t>
            </a:r>
            <a:br>
              <a:rPr sz="1400"/>
            </a:br>
            <a:r>
              <a:rPr b="0" i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za rani i predškolski odgoj i obrazovanje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820800" y="3284640"/>
            <a:ext cx="7543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930400" y="517536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f. dr. sc. Ivanka Stričev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eučilište u Zad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jel za informacijske zna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692360" y="3068640"/>
            <a:ext cx="561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Arial"/>
              </a:rPr>
              <a:t>Planiranje i provođenje proj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Image result for &quot;nacionalni program odgoja i obrazovanja za ljudska prava&quot;"/>
          <p:cNvPicPr/>
          <p:nvPr/>
        </p:nvPicPr>
        <p:blipFill>
          <a:blip r:embed=""/>
          <a:stretch/>
        </p:blipFill>
        <p:spPr>
          <a:xfrm>
            <a:off x="539640" y="189000"/>
            <a:ext cx="2000520" cy="30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Image result for &quot;nacionalni program odgoja i obrazovanja za ljudska prava&quot;"/>
          <p:cNvPicPr/>
          <p:nvPr/>
        </p:nvPicPr>
        <p:blipFill>
          <a:blip r:embed=""/>
          <a:stretch/>
        </p:blipFill>
        <p:spPr>
          <a:xfrm>
            <a:off x="6804000" y="3789360"/>
            <a:ext cx="2133720" cy="2857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3203640" y="692280"/>
            <a:ext cx="331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Nacionalni kurikulum za rani i predškolski odgoj i obrazo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stvaranje uvjeta i poticanje djeteta na pozitivan stav prema sebi i drugima, odgovorno ponašanje, uzajamno pomaganje, prihvaćanje i poštovanje, poštivanje različitosti, samopoštovanje i osposobljavanje za učinkovito sudjelovanje u razvoju demokratskih odnosa u vrtiću, zajednici i društvu na načelima pravednosti i mirotvors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87700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nos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ljudska prava – odgoj o obrazovanje za demokratsko građanstv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6916680" y="689040"/>
            <a:ext cx="1908360" cy="18000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smo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edu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43240" y="260280"/>
            <a:ext cx="2874960" cy="621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3152880" cy="628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rcRect l="0" t="0" r="0" b="5237"/>
          <a:stretch/>
        </p:blipFill>
        <p:spPr>
          <a:xfrm>
            <a:off x="1095480" y="1844640"/>
            <a:ext cx="2916000" cy="602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31608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5"/>
          <a:stretch/>
        </p:blipFill>
        <p:spPr>
          <a:xfrm>
            <a:off x="3867120" y="1989000"/>
            <a:ext cx="2916360" cy="62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Projektni ra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Jedna od strategi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zniman potencijal u ovom područ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1295280" y="3645000"/>
            <a:ext cx="6553440" cy="1944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oje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trategija koja omogućava da se do ishoda dolazi planski, a ne (samo) sretnim sluča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6799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Calibri Light"/>
              </a:rPr>
              <a:t>Zašto projekt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2720" y="16002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jekt 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vaki zaokružen, cjelovit i složen pothvat čiji su cilj i dinamika definirani, a ostvaruje se u određenom vremenu, te zahtijeva koordinirane napore nekoliko ili većeg broja ljudi, službi 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a razliku od bilo kojeg programa ili aktivnosti, projekt je točno vremenski određen i provodi se prema planiranim koracima – znamo što želimo postići, kako ćemo do toga doći i kako ćemo vrednovati postignuć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stignuća u radu na projektima rezultat su planskih akcija, a ne povremenih iskoraka i slučaj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jegova kompleksnost proizlazi iz primjene niza različitih metoda i aktivnosti koje vode cil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ključeno je više dio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ješavaju se konkretni problemi (pitan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lika 1" descr=""/>
          <p:cNvPicPr/>
          <p:nvPr/>
        </p:nvPicPr>
        <p:blipFill>
          <a:blip r:embed="rId1"/>
          <a:stretch/>
        </p:blipFill>
        <p:spPr>
          <a:xfrm>
            <a:off x="5076720" y="4646520"/>
            <a:ext cx="429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98652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Calibri Light"/>
              </a:rPr>
              <a:t>Što djeca uče radom na projektu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125360"/>
            <a:ext cx="673272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ts val="19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d na projektu omogućav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čenje koje polazi od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eposrednog iskustv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 poticaja iz okruženja; nadogradnju na postojeć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vorena pitanja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ublje razumijevan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čenja usmjeravanjem na značajna pitanja i probl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vajanje znanja i razumijevanje koncepata koji kada su naučeni, omogućavaj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jen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što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djec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je razloge z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daljnje uče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čenje istraživanjem i stvaranje novih idej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obrazloženja i načina kako prezetirati svoj r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očavanje 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jenom i kritik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kazivanje stavova i mišlje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ošenje odluk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 temelju izbora i svijest o odgovornosti za vlastite odluke što djeluje na svjesno angažiranje u učen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zvoj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ritičkog mišljenja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zastupanj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lastitog mišljenja i id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azvoj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humanih vrijednosti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bez suradnje nema projekta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2"/>
          <p:cNvSpPr/>
          <p:nvPr/>
        </p:nvSpPr>
        <p:spPr>
          <a:xfrm>
            <a:off x="7020000" y="906480"/>
            <a:ext cx="1873080" cy="18003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kultura particip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3"/>
          <p:cNvSpPr/>
          <p:nvPr/>
        </p:nvSpPr>
        <p:spPr>
          <a:xfrm>
            <a:off x="7667640" y="2809800"/>
            <a:ext cx="57780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7020000" y="3573360"/>
            <a:ext cx="16556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oštovanje p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av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hvaćanje prav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emokratsko odlučiv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dgovorno ponašanje prema sebi, drugima i zajednič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valitetna komunik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socijalne vješ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sobni doprinos odnosima i postupc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070280" y="638172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shodi u afektivnom i kognitivnom područ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1"/>
          <p:cNvSpPr/>
          <p:nvPr/>
        </p:nvSpPr>
        <p:spPr>
          <a:xfrm>
            <a:off x="826920" y="620640"/>
            <a:ext cx="2665440" cy="25923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projekt kao strategija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"/>
          <p:cNvSpPr/>
          <p:nvPr/>
        </p:nvSpPr>
        <p:spPr>
          <a:xfrm>
            <a:off x="5651640" y="3860640"/>
            <a:ext cx="2665440" cy="2592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sm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348000" y="285264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flek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5"/>
          <p:cNvSpPr/>
          <p:nvPr/>
        </p:nvSpPr>
        <p:spPr>
          <a:xfrm rot="2126400">
            <a:off x="4066920" y="1197000"/>
            <a:ext cx="4249800" cy="1440000"/>
          </a:xfrm>
          <a:custGeom>
            <a:avLst/>
            <a:gdLst>
              <a:gd name="textAreaLeft" fmla="*/ 927360 w 4249800"/>
              <a:gd name="textAreaRight" fmla="*/ 3142440 w 424980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27" hR="21600" stAng="10800000" swAng="5400000"/>
                <a:lnTo>
                  <a:pt x="11258" y="0"/>
                </a:lnTo>
                <a:arcTo wR="9427" hR="21600" stAng="-5400000" swAng="3563464"/>
                <a:lnTo>
                  <a:pt x="21301" y="16200"/>
                </a:lnTo>
                <a:lnTo>
                  <a:pt x="19770" y="21600"/>
                </a:lnTo>
                <a:lnTo>
                  <a:pt x="17640" y="16200"/>
                </a:lnTo>
                <a:lnTo>
                  <a:pt x="18555" y="16200"/>
                </a:lnTo>
                <a:arcTo wR="9427" hR="21600" stAng="-1836536" swAng="-3417154"/>
                <a:lnTo>
                  <a:pt x="10343" y="102"/>
                </a:lnTo>
                <a:arcTo wR="9427" hR="21600" stAng="-5546310" swAng="-5253690"/>
                <a:close/>
              </a:path>
              <a:path fill="darkenLess" w="21600" h="21600">
                <a:moveTo>
                  <a:pt x="0" y="21600"/>
                </a:moveTo>
                <a:arcTo wR="9427" hR="21600" stAng="10800000" swAng="5400000"/>
                <a:lnTo>
                  <a:pt x="9427" y="0"/>
                </a:lnTo>
                <a:arcTo wR="9427" hR="21600" stAng="-5400000" swAng="146310"/>
                <a:lnTo>
                  <a:pt x="10343" y="102"/>
                </a:lnTo>
                <a:arcTo wR="9427" hR="21600" stAng="-5546310" swAng="-5253690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6"/>
          <p:cNvSpPr/>
          <p:nvPr/>
        </p:nvSpPr>
        <p:spPr>
          <a:xfrm rot="12855000">
            <a:off x="778680" y="4436640"/>
            <a:ext cx="4248360" cy="1440000"/>
          </a:xfrm>
          <a:custGeom>
            <a:avLst/>
            <a:gdLst>
              <a:gd name="textAreaLeft" fmla="*/ 927000 w 4248360"/>
              <a:gd name="textAreaRight" fmla="*/ 3141360 w 424836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27" hR="21600" stAng="10800000" swAng="5400000"/>
                <a:lnTo>
                  <a:pt x="11258" y="0"/>
                </a:lnTo>
                <a:arcTo wR="9427" hR="21600" stAng="-5400000" swAng="3563464"/>
                <a:lnTo>
                  <a:pt x="21301" y="16200"/>
                </a:lnTo>
                <a:lnTo>
                  <a:pt x="19770" y="21600"/>
                </a:lnTo>
                <a:lnTo>
                  <a:pt x="17640" y="16200"/>
                </a:lnTo>
                <a:lnTo>
                  <a:pt x="18555" y="16200"/>
                </a:lnTo>
                <a:arcTo wR="9427" hR="21600" stAng="-1836536" swAng="-3417154"/>
                <a:lnTo>
                  <a:pt x="10343" y="102"/>
                </a:lnTo>
                <a:arcTo wR="9427" hR="21600" stAng="-5546310" swAng="-5253690"/>
                <a:close/>
              </a:path>
              <a:path fill="darkenLess" w="21600" h="21600">
                <a:moveTo>
                  <a:pt x="0" y="21600"/>
                </a:moveTo>
                <a:arcTo wR="9427" hR="21600" stAng="10800000" swAng="5400000"/>
                <a:lnTo>
                  <a:pt x="9427" y="0"/>
                </a:lnTo>
                <a:arcTo wR="9427" hR="21600" stAng="-5400000" swAng="146310"/>
                <a:lnTo>
                  <a:pt x="10343" y="102"/>
                </a:lnTo>
                <a:arcTo wR="9427" hR="21600" stAng="-5546310" swAng="-5253690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06:34Z</dcterms:created>
  <dc:creator>Dubravka Males</dc:creator>
  <dc:description/>
  <dc:language>en-US</dc:language>
  <cp:lastModifiedBy>istricev@unizd.hr</cp:lastModifiedBy>
  <dcterms:modified xsi:type="dcterms:W3CDTF">2019-05-15T10:05:00Z</dcterms:modified>
  <cp:revision>80</cp:revision>
  <dc:subject/>
  <dc:title>Pravo djeteta na sudjelovanje</dc:title>
</cp:coreProperties>
</file>