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C82-0928-4257-A83D-A1725FDF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3A9-74B5-41FC-85A4-09C26F3E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7A0-4EBA-4AA4-9AC8-8D7BF08C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27D-D335-467E-B91D-78EFF9B6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735A-A42B-4C45-A9BB-73C4ACC8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AAAC-90C1-443D-87E3-765D83CB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E88B-6976-44F2-862E-A29130AF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6B66-7BC2-4C82-98AE-B79DFD42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8D6F-6020-4476-805D-F7B78F63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4997-DA58-4E52-9290-C49C20DB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5626-5598-4D91-9C76-AD7F5719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D8F-5B92-4AD2-83DB-DF53058C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BF9F-137E-4F3C-BED3-886786FA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E026-7ABD-48DC-9E24-8ACF0600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28B1-FAA0-4657-8D8D-26ED10FD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ACEB-3CAD-4988-B85E-E868E73C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7B20-CDFB-4CB6-8A54-A0F63C57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183-0B98-4CDF-8339-0A1D423E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F98-71E2-44AF-B030-7CE253AB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7B5-5B8E-43A0-A0F7-24140BA8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A03-03AF-49F5-BFEB-EA845978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209-77A5-45D9-B5C8-480E958D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AAA-213F-480C-8EFA-FD5415A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745-1D27-4A50-A2C1-B3474C73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01080" y="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ĐENJE, Suzana Hitr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CC6B-519E-4223-9799-760E96931B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1" descr="nautilus"/>
          <p:cNvPicPr/>
          <p:nvPr/>
        </p:nvPicPr>
        <p:blipFill>
          <a:blip r:embed="rId2"/>
          <a:stretch/>
        </p:blipFill>
        <p:spPr>
          <a:xfrm>
            <a:off x="8112240" y="0"/>
            <a:ext cx="1023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08720" y="1052640"/>
            <a:ext cx="0" cy="4495680"/>
          </a:xfrm>
          <a:prstGeom prst="line">
            <a:avLst/>
          </a:prstGeom>
          <a:ln w="936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P3240394"/>
          <p:cNvPicPr/>
          <p:nvPr/>
        </p:nvPicPr>
        <p:blipFill>
          <a:blip r:embed="rId3"/>
          <a:stretch/>
        </p:blipFill>
        <p:spPr>
          <a:xfrm>
            <a:off x="-7165800" y="-5283360"/>
            <a:ext cx="1076040" cy="808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nautilus"/>
          <p:cNvPicPr/>
          <p:nvPr/>
        </p:nvPicPr>
        <p:blipFill>
          <a:blip r:embed="rId4"/>
          <a:stretch/>
        </p:blipFill>
        <p:spPr>
          <a:xfrm>
            <a:off x="7451640" y="1052640"/>
            <a:ext cx="1440000" cy="1582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ĐENJE, Suzana Hitr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A1AE-BD06-4B48-8872-63B295F4D1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0567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Arial"/>
              </a:rPr>
              <a:t>ORGANIZACIJA RADA </a:t>
            </a:r>
            <a:r>
              <a:rPr b="1" lang="hr-HR" sz="4000" spc="-1" strike="noStrike">
                <a:solidFill>
                  <a:srgbClr val="330066"/>
                </a:solidFill>
                <a:latin typeface="Arial"/>
              </a:rPr>
              <a:t>ODGOJNO- OBRAZOVNE USTANOV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49240" y="3049200"/>
            <a:ext cx="775512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0066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330066"/>
                </a:solidFill>
                <a:latin typeface="Arial"/>
              </a:rPr>
              <a:t>stručni skup AZOO-a 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330066"/>
                </a:solidFill>
                <a:latin typeface="Arial"/>
              </a:rPr>
              <a:t>ravnatelje u prvoj godini prvog man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0066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0066"/>
                </a:solidFill>
                <a:latin typeface="Arial"/>
              </a:rPr>
              <a:t>                          </a:t>
            </a:r>
            <a:r>
              <a:rPr b="1" lang="hr-HR" sz="2400" spc="-1" strike="noStrike">
                <a:solidFill>
                  <a:srgbClr val="330066"/>
                </a:solidFill>
                <a:latin typeface="Arial"/>
              </a:rPr>
              <a:t>21.09.20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0066"/>
                </a:solidFill>
                <a:latin typeface="Arial"/>
              </a:rPr>
              <a:t>                          </a:t>
            </a:r>
            <a:r>
              <a:rPr b="0" lang="hr-HR" sz="2400" spc="-1" strike="noStrike">
                <a:solidFill>
                  <a:srgbClr val="330066"/>
                </a:solidFill>
                <a:latin typeface="Arial"/>
              </a:rPr>
              <a:t>Suzana Hitrec, pr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00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00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0066"/>
                </a:solidFill>
                <a:latin typeface="Arial"/>
              </a:rPr>
              <a:t>PRIPREMA ZA VIŠE SCENARIJA ORGANIZACIJE RADA (A/B/C…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smo naučili iz iskustv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su bile najveće poteškoće i kako ih prevladat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ako se pripremiti za rad u kojem je dio učenika u školi, a dio kod kuć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ako se pripremiti za djelomični ili potpuni prelazak na nastavu na dalji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PLANIRANJE U PANDEMI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četak i završetak nastave, trajanje sati, odmora, pauze za čišć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lazak i izlazak iz šk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COVID protokoli za učenike i djelatn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tokoli za puštanje učenika s nasta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stupci kada su pojedinačni učenici i nastavnici u samoizolac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ežurstva nastavnika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O ČEMU TREBA VODITI RAČUNA PRI PLANIRANJ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odišnje izvješće o radu šk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trebe učenika, nastavnika, roditel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kolski kurikulum – vizija, misija, razreda aktivnosti iz Zakona, načini praćenja i evaluacije, razvojni pl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odišnji plan i program –smjernice dobili iz MZO-a prije petnaestak god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bvezno poslati u MZO i osnivaču te objaviti na mrežnim stranicama na dostupnom mjest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PLANIRANJE RADA RAVNATEL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PODRUČJA RADA RAVNATEL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trateško upravljanje ustanov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pravljanje ljudskim potencijal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pravljanje odgojno-obrazovnim proces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rganizacijsko upravljanje odgojno-obrazovnom ustanov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uradnja s roditeljima i vanjskim okruženj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što pišemo u GPP rada ravnatelj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KAKO PLANIRATI RAD U IZVANREDNIM SITUACIJI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napisati u školskom kurikulumu i GPP-u prije njihovog donošenj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a koje sve izvanredne situacije se (sada) priprema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ada i kako mijenjati školski kurikulum i GP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ff0000"/>
                </a:solidFill>
                <a:latin typeface="Arial"/>
              </a:rPr>
              <a:t>PLANIRA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itanj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blem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zazov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ORGANIZACIJA UČENJA I POUČAVAN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trebe, interesi, motivacija i postignuća učen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trebe, interesi, motivacija i postignuća nastavn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RGANIZACIJA RADA ŠKO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0066"/>
                </a:solidFill>
                <a:latin typeface="Arial"/>
              </a:rPr>
              <a:t>ULOGA RAVNATELJA VEZNA UZ PROCES UČENJA I POUČAVANJ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siguravanje </a:t>
            </a: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UVJETA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užanje </a:t>
            </a: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PODRŠ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PRAĆENJE 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unapređivanje nasta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KAKO to radi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zervirano mjesto podnožj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ĐENJ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RAZRADA UČEN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35ce1c"/>
                </a:solidFill>
                <a:latin typeface="Calibri"/>
              </a:rPr>
              <a:t>                                     </a:t>
            </a:r>
            <a:r>
              <a:rPr b="1" lang="pl-PL" sz="2600" spc="-1" strike="noStrike">
                <a:solidFill>
                  <a:srgbClr val="35ce1c"/>
                </a:solidFill>
                <a:latin typeface="Calibri"/>
              </a:rPr>
              <a:t>CILJEVI UČENJ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(potreb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pl-PL" sz="2600" spc="-1" strike="noStrike">
                <a:solidFill>
                  <a:srgbClr val="0033cc"/>
                </a:solidFill>
                <a:latin typeface="Calibri"/>
              </a:rPr>
              <a:t>SADRŽAJI UČENJA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pl-PL" sz="2600" spc="-1" strike="noStrike">
                <a:solidFill>
                  <a:srgbClr val="990099"/>
                </a:solidFill>
                <a:latin typeface="Calibri"/>
              </a:rPr>
              <a:t>UVJETI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990099"/>
                </a:solidFill>
                <a:latin typeface="Calibri"/>
              </a:rPr>
              <a:t>                                                                       </a:t>
            </a:r>
            <a:r>
              <a:rPr b="1" lang="pl-PL" sz="2600" spc="-1" strike="noStrike">
                <a:solidFill>
                  <a:srgbClr val="990099"/>
                </a:solidFill>
                <a:latin typeface="Calibri"/>
              </a:rPr>
              <a:t>UČE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(programiranje)                                     (poučavanj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pl-PL" sz="2600" spc="-1" strike="noStrike">
                <a:solidFill>
                  <a:srgbClr val="ff0000"/>
                </a:solidFill>
                <a:latin typeface="Calibri"/>
              </a:rPr>
              <a:t>ISHODI UČE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(vrednovanj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76720" y="2898720"/>
            <a:ext cx="2328840" cy="175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ODREĐIVANJE ISHO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U čemu se razlikuje učenik PRIJE i NAKON učenj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Što će učenik nakon učenja biti sposoban UČINITI, a prije to nije moga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Po čemu ćemo znati da je učenik zaista NAUČIO ono što je ishodima predviđen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JA – </a:t>
            </a:r>
            <a:r>
              <a:rPr b="1" lang="hr-HR" sz="3900" spc="-1" strike="noStrike">
                <a:solidFill>
                  <a:srgbClr val="ff0000"/>
                </a:solidFill>
                <a:latin typeface="Arial"/>
              </a:rPr>
              <a:t>RAVATELJ/ICA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va uloga – novi odn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sljedstvo (problemi, odnosi, predrasude) – težnja za brzim rješavanjem probl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izija, očekivanja – stvarni uvj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mostalnost, sloboda – usamljenost, nedostatak podrš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4.- satno radno vrijeme – potrebe djela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ODGOVORNOST - OGRANI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KRITERIJI ZA SADRŽAJ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shodi i očekiv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posobnosti učen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vjeti učenja u šk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sposobljenost nastavn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nteresi učen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Vezano uz situacij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vjeti učenja i poučavanja kod kuć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kustva nastave na dalj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0066"/>
                </a:solidFill>
                <a:latin typeface="Arial"/>
              </a:rPr>
              <a:t>VREDNOVANJE POSTIGNUĆA UČENIKA U VRIJEME ONLINE NASTAV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mjernice i upute za vrednov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Izazovi i mogući načini rješavanj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UPRAVLJANJE RESURSI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juds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aterijal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Financijs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UPRAVLJANJE LJUDI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ff0000"/>
                </a:solidFill>
                <a:latin typeface="Arial"/>
              </a:rPr>
              <a:t>Organiziranje i motiviranje 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pojedinaca kako bi radili zajedno na ostvarivanju određenih cilje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ff0000"/>
                </a:solidFill>
                <a:latin typeface="Arial"/>
              </a:rPr>
              <a:t>Razumijevanje potreba 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i ponašanja lju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ff0000"/>
                </a:solidFill>
                <a:latin typeface="Arial"/>
              </a:rPr>
              <a:t>Inspiriranje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članova tima i poticanje njihovog razvo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ČOVJEK /SANTA L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90000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317760" cy="4411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3492360" y="1844640"/>
            <a:ext cx="99396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3478320" y="4076640"/>
            <a:ext cx="99360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4"/>
          <a:stretch/>
        </p:blipFill>
        <p:spPr>
          <a:xfrm>
            <a:off x="4788000" y="1389240"/>
            <a:ext cx="2987640" cy="5468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LJUDI, SOCIJALNI SUSTAV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TRIVIJALNI ST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isu logič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isu bezgranično predvidlj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 samo da reagiraju na vanjske podražaje, nego prvenstveno na same sebe i vlastito st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 može se predvidjeti kako se odvijaju procesi obrade u njihovoj nutrini, niti se njima može upravlj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vise o vlastitoj prošl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mjesto uzročno-posljedičnih veza stupaju interakcija  i cirkula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VOĐENJE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zionarska misija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lučno donošenje odluka +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uzajamno nagrađivanje +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X       </a:t>
            </a:r>
            <a:r>
              <a:rPr b="0" lang="hr-HR" sz="2000" spc="-1" strike="noStrike">
                <a:solidFill>
                  <a:srgbClr val="cc3300"/>
                </a:solidFill>
                <a:latin typeface="Arial"/>
              </a:rPr>
              <a:t>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pješna komunikacija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ć utjecaja na druge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0066"/>
                </a:solidFill>
                <a:latin typeface="Arial"/>
              </a:rPr>
              <a:t>PREISPITIVANJ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hr-HR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POSTOJEĆE SITUA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OČEKIVANJA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d ravnatelja/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zjašnjavanje</a:t>
            </a:r>
            <a:r>
              <a:rPr b="0" lang="hr-HR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ULOGE</a:t>
            </a:r>
            <a:r>
              <a:rPr b="0" lang="hr-HR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 granica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ODGOVORNOSTI</a:t>
            </a:r>
            <a:r>
              <a:rPr b="0" lang="hr-HR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vnatel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spostavljanje vlastitog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STILA UPRAVLJANJA</a:t>
            </a:r>
            <a:r>
              <a:rPr b="0" lang="hr-HR" sz="2600" spc="-1" strike="noStrike">
                <a:solidFill>
                  <a:srgbClr val="330066"/>
                </a:solidFill>
                <a:latin typeface="Arial"/>
              </a:rPr>
              <a:t>,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lima i kultura 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Fomiranje suradničkih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TIMO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radnja /reizgradnja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VIZIJE i MISIJE</a:t>
            </a:r>
            <a:r>
              <a:rPr b="0" lang="hr-HR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RAZVOJNI PLAN</a:t>
            </a:r>
            <a:r>
              <a:rPr b="0" lang="hr-HR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ntinuirano</a:t>
            </a:r>
            <a:r>
              <a:rPr b="0" lang="hr-HR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SAMOVREDNOV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0066"/>
                </a:solidFill>
                <a:latin typeface="Arial"/>
              </a:rPr>
              <a:t>SITUACIJSKI MODEL VOĐENJA</a:t>
            </a:r>
            <a:br>
              <a:rPr sz="1200"/>
            </a:br>
            <a:r>
              <a:rPr b="1" lang="hr-HR" sz="1200" spc="-1" strike="noStrike">
                <a:solidFill>
                  <a:srgbClr val="330066"/>
                </a:solidFill>
                <a:latin typeface="Arial"/>
              </a:rPr>
              <a:t>Northouse, 2001.</a:t>
            </a:r>
            <a:br>
              <a:rPr sz="1200"/>
            </a:br>
            <a:r>
              <a:rPr b="1" lang="hr-HR" sz="4000" spc="-1" strike="noStrike">
                <a:solidFill>
                  <a:srgbClr val="330066"/>
                </a:solidFill>
                <a:latin typeface="Arial"/>
              </a:rPr>
              <a:t>DIREKTIVNI stil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isoka direktivnost, niska podrš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Jasna očekivanja od zaposleni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Ciljevi su jasni, postavlje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lan s prioritetima je postavlj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Jednosmjerno komunicir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nt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Jasnoća uloga i odgovor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cc00"/>
                </a:solidFill>
                <a:latin typeface="Arial"/>
              </a:rPr>
              <a:t>PRIMJEREN</a:t>
            </a:r>
            <a:r>
              <a:rPr b="0" lang="hr-HR" sz="26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ituacija s nedovoljno osposobljenim i  nedovoljno pripremljenim zaposlenic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PODRŽAVAJUĆI sti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iska direktivnost, visoko podržav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ktivni sluša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vosmjerna komunik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ticanje prijedloga zaposlen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ajedničko donošenje odlu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imsko djelov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cc00"/>
                </a:solidFill>
                <a:latin typeface="Arial"/>
              </a:rPr>
              <a:t>PRIMJEREN</a:t>
            </a:r>
            <a:r>
              <a:rPr b="0" lang="hr-HR" sz="30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sposobljeni, ali nedovoljno motivirani zaposlen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ff0000"/>
                </a:solidFill>
                <a:latin typeface="Arial"/>
              </a:rPr>
              <a:t>ORGANIZACIJA RADA ŠKO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je to za v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TRENERSKI sti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isoko direktivan i visoko podržavajuć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bjašnjenje odluka, mogućnost pit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dučavanje, uvjerav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vosmjerna komunik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ocioemocionalna podrš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udjelovanje u odlučivan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cc00"/>
                </a:solidFill>
                <a:latin typeface="Arial"/>
              </a:rPr>
              <a:t>PRIMJEREN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: dobra pripremljenost uz slabu osposobljenost zaposlen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DELEGIRAJUĆI sti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iska razina podrške i direk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enošenje odgovornosti na zaposlen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avanje samostalnosti suradnic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isoka razina povjer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cc00"/>
                </a:solidFill>
                <a:latin typeface="Arial"/>
              </a:rPr>
              <a:t>PRIMJEREN: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dobra osposobljenost i motivacija zaposlenika za posa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ULOGA I FUNKCIJ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8000"/>
                </a:solidFill>
                <a:latin typeface="Arial"/>
              </a:rPr>
              <a:t>Ostvarenje ZADAĆA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8000"/>
                </a:solidFill>
                <a:latin typeface="Arial"/>
              </a:rPr>
              <a:t>INDIVIDUALNI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008000"/>
                </a:solidFill>
                <a:latin typeface="Arial"/>
              </a:rPr>
              <a:t>razvoj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8000"/>
                </a:solidFill>
                <a:latin typeface="Arial"/>
              </a:rPr>
              <a:t>Izgradnja TIM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640320" cy="4840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ŠTO KAO RAVNATELJI MOŽEMO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ožemo ispitati potrebe, interese i očekivanja zaposlenika, roditelja, učen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ožemo objasniti svoju ulogu i granicu odgovor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ožemo mijenjati svoja i time utjecati na tuđa ponaš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ožemo ohrabriti, pohvaliti i nagraditi konstruktivna ponaš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ožemo zahvaliti uvijek kada imamo razlo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ff0000"/>
                </a:solidFill>
                <a:latin typeface="Arial"/>
              </a:rPr>
              <a:t>ACTIONMAN – WONDERWOMAN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Poš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Pozd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Struč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Dosljed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Otvor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Samokritič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Spreman na suradn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Komunikativ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Poduzet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Odluč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Kreativ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Duhov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0066"/>
                </a:solidFill>
                <a:latin typeface="Arial"/>
              </a:rPr>
              <a:t>Vizionar...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j0336911"/>
          <p:cNvPicPr/>
          <p:nvPr/>
        </p:nvPicPr>
        <p:blipFill>
          <a:blip r:embed="rId1"/>
          <a:stretch/>
        </p:blipFill>
        <p:spPr>
          <a:xfrm>
            <a:off x="4140360" y="1916280"/>
            <a:ext cx="3671640" cy="3528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Arial"/>
              </a:rPr>
              <a:t>UPRAVLJANJE MATERIJALNIM I FINANCIJSKIM RESURSIM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mjer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zazov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RAZVOJ ŠKO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isija i vizij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rijednosti i prioritet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azvojni pl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kolska kultur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Etički kodek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ključenost u donošenje odluk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fesionalni razvoj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aćenje, vrednovanje i samovrednovan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PRAĆENJE I NADZ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smo planiral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ako planirano ostvaruje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oji su postignuti rezultat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ĐENJ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PRAĆENJE PROVEDBE PLANIRANO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Ugrađeno u školski kurikulu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GPP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(tko koordinira, kada, ka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Obvezno uključuje sve sudion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ijekom šk. godine, ali preciznije određenje u koliko nav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Anonimni upitnici, evaluacijski listić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Korištenje zajedničkih rasprava (unutar stručnih aktiva, učiteljskih vijeća, roditeljskih sastanaka, razreda, vijeća učenika, vijeća roditelja, školskih odb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Vođenje bilješki o zapažanjima tijekom prove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Fotografije, snimk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ĐENJ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EVALUACIJA RADA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 odnosu na ono što smo planiral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je realiziran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nije realizirano i zaš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smo započeli, ali nismo dovršili i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ašto? koji je plan s tim dal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smo radili tijekom godine, a da nismo  na početku planirali i zaš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ĐENJ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PERSPEKTIVE ZA ANALIZU ORGANIZACIJE RADA ŠKO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društveno-povijesnom kontekstu organizaciju škole promatramo u skladu s njenim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prostorno-vremenskim i kulturnim određen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kontekstu političkih zahtjeva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socijalne sredin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kojoj škola djel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kontekstu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školskog kurikulu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organizaciju povezujemo s ciljevima, procesima i ishodima njegove real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kontekstu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razvojnih potencijal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ff0000"/>
                </a:solidFill>
                <a:latin typeface="Arial"/>
              </a:rPr>
              <a:t>RAVNATELJI U PRVOM MANDA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ako se osjećate na mjestu ravnatelj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JA – RAVNATELJ / ICA</a:t>
            </a:r>
            <a:r>
              <a:rPr b="1" lang="hr-HR" sz="3900" spc="-1" strike="noStrike">
                <a:solidFill>
                  <a:srgbClr val="ff0000"/>
                </a:solidFill>
                <a:latin typeface="Arial"/>
              </a:rPr>
              <a:t>?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akva je moja temeljna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OSOBNOST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Što je za mene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VRIJEDNO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Što me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MOTIVIR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ji je moj stil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ODLUČIVAN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akav je moj stil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KOMUNICIRAN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ji je mol stil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VOĐEN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ji tip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MOĆ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preferira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ji tip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ORGANIZACIJSKE STRUKTUR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podržava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liko JE MOJA </a:t>
            </a: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PREDANOST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škol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0000"/>
                </a:solidFill>
                <a:latin typeface="Arial"/>
              </a:rPr>
              <a:t>Kako reagiram n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PROMJENE i STR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ff00"/>
                </a:solidFill>
                <a:latin typeface="Arial"/>
              </a:rPr>
              <a:t>UČIMO IZ </a:t>
            </a:r>
            <a:br>
              <a:rPr sz="4800"/>
            </a:br>
            <a:r>
              <a:rPr b="1" lang="hr-HR" sz="4800" spc="-1" strike="noStrike">
                <a:solidFill>
                  <a:srgbClr val="330066"/>
                </a:solidFill>
                <a:latin typeface="Arial"/>
              </a:rPr>
              <a:t>RAVNATELJSKIH </a:t>
            </a:r>
            <a:r>
              <a:rPr b="1" lang="hr-HR" sz="4800" spc="-1" strike="noStrike">
                <a:solidFill>
                  <a:srgbClr val="ff3300"/>
                </a:solidFill>
                <a:latin typeface="Arial"/>
              </a:rPr>
              <a:t>GREŠAK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ma Bulach, Pickett i Boo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stakes Educational Leaders Make”, ERIC Digest 122 – june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http://eric.uoregon.edu/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330066"/>
                </a:solidFill>
                <a:latin typeface="Arial"/>
              </a:rPr>
              <a:t>NAJČEŠĆE UČIMO…</a:t>
            </a:r>
            <a:br>
              <a:rPr sz="3000"/>
            </a:b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NO ŠTO </a:t>
            </a:r>
            <a:r>
              <a:rPr b="0" lang="hr-HR" sz="3000" spc="-1" strike="noStrike">
                <a:solidFill>
                  <a:srgbClr val="00ff00"/>
                </a:solidFill>
                <a:latin typeface="Arial"/>
              </a:rPr>
              <a:t>TREBA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RADITI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 ne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NO ŠTO </a:t>
            </a:r>
            <a:r>
              <a:rPr b="0" lang="hr-HR" sz="3000" spc="-1" strike="noStrike">
                <a:solidFill>
                  <a:srgbClr val="ff3300"/>
                </a:solidFill>
                <a:latin typeface="Arial"/>
              </a:rPr>
              <a:t>NE TREBA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RADI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75564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755640" y="4941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ff0000"/>
                </a:solidFill>
                <a:latin typeface="Arial"/>
              </a:rPr>
              <a:t>ZAŠTO SE BAVITI </a:t>
            </a:r>
            <a:br>
              <a:rPr sz="3500"/>
            </a:br>
            <a:r>
              <a:rPr b="1" lang="hr-HR" sz="3500" spc="-1" strike="noStrike">
                <a:solidFill>
                  <a:srgbClr val="ff0000"/>
                </a:solidFill>
                <a:latin typeface="Arial"/>
              </a:rPr>
              <a:t>ANALIZOM GREŠAKA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vaki treći ravnatelj u Americi gubi ravnateljsko mjesto (Davis, 1997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ećina država ima vremenski ograničen program podrške za ravnatelje koji su u rizičnoj skupini (za gubljenje pozicij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ĐENJ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STRAŽIVANJA o greška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0066"/>
                </a:solidFill>
                <a:latin typeface="Arial"/>
              </a:rPr>
              <a:t>Bulach, Boothe i Pickett (1997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0066"/>
                </a:solidFill>
                <a:latin typeface="Arial"/>
              </a:rPr>
              <a:t>DeLuca (1997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0066"/>
                </a:solidFill>
                <a:latin typeface="Arial"/>
              </a:rPr>
              <a:t>Davis (199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0066"/>
                </a:solidFill>
                <a:latin typeface="Arial"/>
              </a:rPr>
              <a:t>Hagemann, Varga (1993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0066"/>
                </a:solidFill>
                <a:latin typeface="Arial"/>
              </a:rPr>
              <a:t>Hogan, Raskin, Fazzini (199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0066"/>
                </a:solidFill>
                <a:latin typeface="Arial"/>
              </a:rPr>
              <a:t>Martin (199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600" spc="-1" strike="noStrike">
                <a:solidFill>
                  <a:srgbClr val="330066"/>
                </a:solidFill>
                <a:latin typeface="Arial"/>
              </a:rPr>
              <a:t>REZULTAT – većina grešaka je iz kategor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000" spc="-1" strike="noStrike">
                <a:solidFill>
                  <a:srgbClr val="ff3300"/>
                </a:solidFill>
                <a:latin typeface="Arial"/>
              </a:rPr>
              <a:t>LOŠI MEĐULJUSKI ODNO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3789360"/>
            <a:ext cx="1224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ff0000"/>
                </a:solidFill>
                <a:latin typeface="Arial"/>
              </a:rPr>
              <a:t>15 KATEGORIJA grešaka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oše razvijene vještine međuljudskih odno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oše razvijene interpersonalne – komunikacijske vješt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edostatak viz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euspjeh u vođen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zbjegavanje konflik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ff0000"/>
                </a:solidFill>
                <a:latin typeface="Arial"/>
              </a:rPr>
              <a:t>15 KATEGORIJA grešaka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edostatak znanja o kurikulu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etjerano kontrolir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edostatak etičnosti i karakt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aboravljanje kako je biti nastav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edosljed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Favorizir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ff0000"/>
                </a:solidFill>
                <a:latin typeface="Arial"/>
              </a:rPr>
              <a:t>15 KATEGORIJA grešaka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euspjeh u održanju odgovornosti zaposleni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euspjeh u provođenju odlu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agle odlu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oše prezentiranje šk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NAJČEŠĆE GREŠK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NEDOSTATAK POVJER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NEBRIGA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(udaljavanje od zaposlenih, zbornice, ne obraćanje nastavnicima po imenima, nedostatak delegiranja, nedostatak pohva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NESPOSOBNOST MOTIVIRANJA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ZAPOSLENIH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(osim kroz poziciju, nagradu i kazn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FOKUS U ORGANIZACIJI RADA ŠKO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kolski kurikulum, Godišnji plan i program rada, Strateško planir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rganizacija učenja i poučav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rganizacija ljudskih, materijalnih i financijskih resur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azvojna orijentacija škole (usmjernonost na promjene i razvoj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71900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66"/>
                </a:solidFill>
                <a:latin typeface="Arial"/>
              </a:rPr>
              <a:t>RAVNATELJ S JAKOM ORIJENTACIJOM 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00"/>
                </a:solidFill>
                <a:latin typeface="Arial"/>
              </a:rPr>
              <a:t>ZADAT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66"/>
                </a:solidFill>
                <a:latin typeface="Arial"/>
              </a:rPr>
              <a:t>RAVNATELJ S JAKOM ORIJENTACIJOM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00"/>
                </a:solidFill>
                <a:latin typeface="Arial"/>
              </a:rPr>
              <a:t>LJU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zervirano mjesto podnožj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ff0000"/>
                </a:solidFill>
                <a:latin typeface="Arial"/>
              </a:rPr>
              <a:t>NAJČEŠĆE GREŠK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esposobnost donošenja odlu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esposobnost rješavanja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erazumijevanje školskih pitanja i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Loša komunikacij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esposobnost sluš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avanje i primanje povratne informa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Javno prozivanje kolega zbog lošeg r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002060"/>
                </a:solidFill>
                <a:latin typeface="Arial"/>
              </a:rPr>
              <a:t>KAKO IZBJEĆI RAVNATELJSKE GREŠKE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rednovati i poboljšavati svoje interpersonalne vješt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zumjeti kako doživljavamo svijet oko 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e dozvoliti da prošli uspjesi postanu neuspje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tražiti organizacijske indikatore koji predstavljaju “kamen spoticanj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Biti asertivan u razvijanju plana osobnog profesionalnog razvo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činiti prvi kor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FAKTORI koji neuspjeh pretvaraju u USPJE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55640" y="1628280"/>
            <a:ext cx="82296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S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evladavanje STRAH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BOR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Fokus na </a:t>
            </a: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BUDUĆ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Čvrsti </a:t>
            </a: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TEMEL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HRABROST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, UP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Djelovati NEOČEKIV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MJERENJE I PRAĆENJE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avih aktiv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FAKTORI koji neuspjeh pretvaraju u USPJEH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rživi razv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anost, preda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druživ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Fleksibil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ozvola za greš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skorištavanje” krizne situac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ĐENJ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300" spc="-1" strike="noStrike">
                <a:solidFill>
                  <a:srgbClr val="002060"/>
                </a:solidFill>
                <a:latin typeface="Arial"/>
              </a:rPr>
              <a:t>STRATEGIJE U RADU RAVNATELJA </a:t>
            </a:r>
            <a:br>
              <a:rPr sz="3300"/>
            </a:br>
            <a:r>
              <a:rPr b="1" lang="hr-HR" sz="3300" spc="-1" strike="noStrike">
                <a:solidFill>
                  <a:srgbClr val="002060"/>
                </a:solidFill>
                <a:latin typeface="Arial"/>
              </a:rPr>
              <a:t>USMJERENE NA POBOLJŠANJE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aviti</a:t>
            </a:r>
            <a:r>
              <a:rPr b="0" lang="hr-HR" sz="2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učenje i poučavanj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središte pozornost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icati pozitivne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međuljudske odnos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aviti jasnu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viziju</a:t>
            </a:r>
            <a:r>
              <a:rPr b="0" lang="hr-HR" sz="2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visoka očekivanj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boljšati</a:t>
            </a:r>
            <a:r>
              <a:rPr b="0" lang="hr-HR" sz="2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ozračje</a:t>
            </a:r>
            <a:r>
              <a:rPr b="0" lang="hr-HR" sz="2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okoliš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mogućiti vrijeme i mogućnosti</a:t>
            </a:r>
            <a:r>
              <a:rPr b="0" lang="hr-HR" sz="2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za suradnj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spodijeliti voditeljstvo: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izgradnja timov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ključiti lokalnu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zajednic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Vrednovati i inovira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539640" y="1484280"/>
            <a:ext cx="806472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66"/>
                </a:solidFill>
                <a:latin typeface="Arial"/>
              </a:rPr>
              <a:t>Hvala na pažnji i suradnj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66"/>
                </a:solidFill>
                <a:latin typeface="Arial"/>
              </a:rPr>
              <a:t>                                   </a:t>
            </a:r>
            <a:r>
              <a:rPr b="1" lang="hr-HR" sz="2800" spc="-1" strike="noStrike">
                <a:solidFill>
                  <a:srgbClr val="330066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0066"/>
                </a:solidFill>
                <a:latin typeface="Arial"/>
              </a:rPr>
              <a:t>                           </a:t>
            </a:r>
            <a:r>
              <a:rPr b="1" lang="hr-HR" sz="2800" spc="-1" strike="noStrike">
                <a:solidFill>
                  <a:srgbClr val="330066"/>
                </a:solidFill>
                <a:latin typeface="Arial"/>
              </a:rPr>
              <a:t>suzana.hitrec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0066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j0318167"/>
          <p:cNvPicPr/>
          <p:nvPr/>
        </p:nvPicPr>
        <p:blipFill>
          <a:blip r:embed="rId1"/>
          <a:stretch/>
        </p:blipFill>
        <p:spPr>
          <a:xfrm>
            <a:off x="1042920" y="3284640"/>
            <a:ext cx="2808360" cy="244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FUNKCIJE MENADŽEMEN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LANIRAN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– određivanje ciljeva škole i strategija za postizanje tih cil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ORGANIZIRAN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– određivanje zadataka koji se trebaju obaviti, načina na koji se zadaci trebaju grupirati, tko kome odgovara i gdje se donose odl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VOĐE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usmjeravati, koordinirati, motivirati, birati najučinkovitije načine komunikacije, rješavati suk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NADZO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praćenje, uspoređivanje s planiranim, eventualno ispravljanje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ORGANIZACIJSKO PONAŠA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dručje istraživanja koje proučava </a:t>
            </a: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učinak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ga pojedinci, grupe i strukture imaju na </a:t>
            </a: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ponašanje unutar organizacija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 svrhu primjenjivanja toga znanja za </a:t>
            </a: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poboljšanje učinkovitosti organizaci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ff0000"/>
                </a:solidFill>
                <a:latin typeface="Arial"/>
              </a:rPr>
              <a:t>PLANIRA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ašto planira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planira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ako planira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ada planira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Što ove godine radimo novo/drugači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bi mogli bolje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AKTUALNO PLANIRA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rganizacija redovne nastave, dodatne, dopunske, izborne, fakultativ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rganizacija izvanučioničke nasta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rganizacija projekata, slobodnih aktivnosti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U VREMENU PANDEMIJ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RGANIZACIJA RADA ŠKOLE, Suzana Hit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7:37:32Z</dcterms:created>
  <dc:creator>Suzana</dc:creator>
  <dc:description/>
  <dc:language>en-US</dc:language>
  <cp:lastModifiedBy>Korisnik</cp:lastModifiedBy>
  <dcterms:modified xsi:type="dcterms:W3CDTF">2021-09-20T17:41:15Z</dcterms:modified>
  <cp:revision>46</cp:revision>
  <dc:subject/>
  <dc:title>Slide 1</dc:title>
</cp:coreProperties>
</file>