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 type="dt" idx="37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5"/>
          <p:cNvSpPr>
            <a:spLocks noGrp="1"/>
          </p:cNvSpPr>
          <p:nvPr>
            <p:ph type="ftr" idx="38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6"/>
          <p:cNvSpPr>
            <a:spLocks noGrp="1"/>
          </p:cNvSpPr>
          <p:nvPr>
            <p:ph type="sldNum" idx="39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C7207-9DE3-4046-833C-D31150397E00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68F68-8FF0-4276-A102-C7ABADF0FCE7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AFCCC-6D3C-47E8-AE9F-8DCA3438D8AE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39B72-6289-4860-AD47-95594FA66350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23CBD-1C85-48BC-BCB7-909800E024F8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C057B-F5FB-4DEE-B1B5-75ADFE6D6924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DF00D-8B02-4B3F-8A0F-46925BF0E813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9A9FF-747D-49D0-A2F7-5AD5ADCBFBBC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5103A76-F468-412B-A8FA-C24242847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435296E-127D-4500-BA7E-1E42A7B94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C10CFAA-C904-412F-830C-B60A19956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74705AF-3512-4256-90C3-EBD055548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F391D22-A62B-4E20-851E-63C831B2D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170AA29-A92E-4E35-A3DF-0A86875EF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612FB93-F2A0-4BF7-B17B-614525706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EF58805-1C9B-4403-AFAF-818EF4E79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E7F9B62-6C1E-45BC-AE1A-D9DAF7B3D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998652A-A380-4725-8708-1191E7285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2E2D044-4E51-40EF-814E-28D721A28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5457F7B-26DA-485F-B7C6-BFBCE7AE9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8360172-EE5D-4629-8EC9-2F1031BCB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1A08F60-3826-48E5-85EE-E5536B078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1E329A5-D092-42D9-8988-9F266E2A4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C0B9ADD-ABE8-4A68-A883-08CC21D37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8B39CA1-749C-45F0-84AC-492C66894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2D7B50D-1DD7-4F91-A37E-4DAA16F7D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94FB8AD-3909-426D-BBFE-D4724577B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93BEBE3-BBA2-492F-AF06-47CDB3E2B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AB70181-1401-4FEB-8692-38EFAB44F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94A33CB-0BB4-4E24-B45F-B8F911ACB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5431648-C421-47BF-8D4F-30A34A50C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57386DA-5670-43F4-9E6D-944DC236E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6734918-542C-41A2-B022-4A2C3BA2D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06A3276-5C85-46BE-8410-CF81FC679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F0938D8-1869-4AA6-8EFB-430843383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2C74D1A-3007-4286-AC89-E0CB715A6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82ED20D-66C7-408A-8506-E4B53DE46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8A93BCA-BC03-424A-905E-9583BFA48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9DEB45A-A9A3-478E-B67A-15340D2A6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738FCEE-F90A-4067-925B-743EE17A4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05E27EE-AFB0-4529-A88E-6AFB200DE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5B380A9-4B89-461B-BAD1-4BCC15682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613EB68-A14E-43B5-921C-10C088A87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E18FA21-B79C-420B-B595-C6E556AD9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DE55D81-7715-45ED-9D78-08255CA6E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836CC07-C3AC-458E-9272-E8A5AE705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C29366B-11EE-4773-A625-3E27B0220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C2038DC-B21A-4F89-8600-180E49AD3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BA81BCE-D6F2-45D0-9C80-B84028912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E3CBD6A-3133-4BD7-A279-4CDBD3ABE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28B59E0-4759-409A-A555-71509A0C1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1B4D25D-1FA0-443C-BA52-2EB8D8EDB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5D29376-DF00-453D-8AD3-0E308A15D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B2D461B-675F-4DD0-8ED6-63000D0ED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94A3712-CF64-486C-8336-75F2DBB03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F249A18-3A23-439C-836A-7D2649567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3226F9B-5FA0-4F19-9098-365883D79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08DFF3E-FA37-4A56-BD70-59B19D7D5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8479722-336C-4EA9-A2D6-BC7EEF517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D2DB634-587F-460D-8B7A-7AFA81EBF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BA3DA6E-A6AE-458A-8742-4B5BD1A44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1BA3B2E-F7DB-4006-A0D4-74D08BFC7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89A11D5-2A33-4EE2-9756-CDA6CD9FC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9A5966D-08E0-4399-94A9-6BD3096BE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72686FD-A6C5-438A-836E-8018548D8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E364731-EF77-4B77-A827-3F86BBD28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4432854-5616-4332-92C6-B1DF9CB94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5C51968-B8F5-49D2-9AA8-E9FACBA24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34EE3B7-D675-4CF4-8692-AC3C775D6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3CD4107-FF11-4484-B77D-BE874F023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413D1A9-19D9-4613-8A19-405BE811B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AE95126-CF4D-4969-A519-3261E39D4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D89DE47-2D3C-46C0-B010-4B78E9C35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2CE6D9D-1235-4D87-B989-FD937AE0C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91D9BEB-6DC2-4701-9C1B-0A8678DC3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1BE4708-3275-4456-98C1-67AE25672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D1BB6E4-B2A4-4FB9-BF3D-297896B0C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8C3ACF-5847-4744-9DF3-2C8842FC466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3F51A9-974F-46BC-8F53-9A5ABB4638A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76BDF6-0D5F-4963-972D-523BA7F73FF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DCB12C-8222-44B3-8DFC-278A090CE47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2ADA51-94C6-430A-A44B-BA6A07628C1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813251-ED53-49D3-9DC0-4B9DD95C9FD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8C5E25-FBD4-4203-821E-7FFA1CADDF3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3A2D5C-FC76-46CD-AC5C-791343BA37E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E6F2CC-86EB-4F0C-842B-87B026F4190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581136-E413-4F44-AA6F-02FAB06702A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E1E17F-413D-462F-8CB9-4B0CA874CAE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265096-FCC1-4C9B-94CB-F56D9FB11D58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7DB4D35-8D09-4B4F-85AF-546F88A402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5DCAB8D-7EA6-412E-A06C-4468994FE696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9D180F-F9F8-4F1B-A978-90CADA0A63DF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E13EB65-0462-4EDD-BE21-F9B7D48B81EB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D416201-E24E-4A1F-8F0F-CB7E9EDE2081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27093EB-A5A0-41BA-BEF8-9713CB508D36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CEDF0E7-DE2F-48C6-986B-16AD143B8079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EB0714-7CFA-4C7B-945F-684649EE0FC7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1B2CBEC-0B71-4BE2-BF38-8A5DC9C2BDEA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AA73C0-2A82-482D-A41A-6B2BEF57DC4D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3D457DF-1490-43B8-A4CF-17FDD3C798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664AFC5-EA26-4345-AAFE-DD5897A8DF99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F6032FC-0E5D-4343-A4B5-56D02B68F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AF03793-6D9F-42C6-B65C-183F05C78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A48EBAC-CA4F-4137-8F6A-472C97DE4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EEC52FF-3EBF-490B-893C-537F8FF34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DA3A2CF-4179-46DD-B78C-87013D0A8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3C5A4AE-12CE-48AB-8267-D679727F5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F4B807B-B27F-4E17-9E9B-B2400BFD5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CE77397-53A1-4BB4-B185-0219773C3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519E348-C0BD-434E-89F1-FAA1A5510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DBC2220-C73B-43DE-B3CC-574B31E3C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1FA72BA-2626-4085-A697-6253F1529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FFAEE14-5E42-4B34-BAB8-70A61425F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FA9B5B1-B3E7-4B1A-A9A4-B26FB4CFD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97960BA-0FDC-4724-B35B-969EA28F6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48BBEFB-2666-4C87-A8A7-B920A097C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B6D46B5-ABAA-4505-8807-824D078AE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2C8EA33-DC09-4252-B921-636DC32A8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4AE4BC7-3BDF-4A0D-9C88-602E1E489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8B91349-E561-4A5A-83C9-FA3284FAF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587A837-40E0-4105-A3BD-DEDFC789E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6275D74-9CD5-41A2-B8D5-85E4F2D63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6B2D37C-7906-4960-9769-04D27598E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95B6C6F-B434-4934-BC2D-23711EB12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7B351DA-1484-4621-B848-E9B75A082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7BE11DC-E40A-43B8-B8C3-6984BA9CD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FF795F6-FB63-4C97-8E94-D2D7AA39E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150533F-C3A8-4421-88A2-10FA1E375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512C5CC-6A2C-47DD-A13E-2E7991DCF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9D52F27-FD02-4548-AA97-8EDB1022A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81C0433-9F26-4BDA-842A-49B32DFBF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8C51767-CBC4-4CE9-95B5-69EAC33E2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1A9EFCB-B8EB-44E4-8886-5EAA7F493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8B45373-FB3B-48BF-AA7B-0D0E6AD0F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2AEE170-9252-4530-9035-B6B451380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20CBEF6-A4AC-45F3-8D93-9E5AADBC3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59B2729-2A32-4D96-BECB-149403E9F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64522B3-3FD1-425F-AD84-FE3A50EB6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0A0C9C4-8E82-41BA-881E-C69CE9C55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4500618-DE01-465B-BD4B-D506653C2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9371D-7CAC-432F-9BB1-DD54A37631AE}" type="datetime">
              <a:rPr b="0" lang="hr-HR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003280" y="6346800"/>
            <a:ext cx="3683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B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1400" spc="-1" strike="noStrike">
                <a:solidFill>
                  <a:srgbClr val="000000"/>
                </a:solidFill>
                <a:latin typeface="Times New Roman"/>
              </a:rPr>
              <a:t>Služba za rad s mladeži i volonterima H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Title 1"/>
          <p:cNvSpPr/>
          <p:nvPr/>
        </p:nvSpPr>
        <p:spPr>
          <a:xfrm>
            <a:off x="0" y="1764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Line 8"/>
          <p:cNvSpPr/>
          <p:nvPr/>
        </p:nvSpPr>
        <p:spPr>
          <a:xfrm>
            <a:off x="457200" y="1243080"/>
            <a:ext cx="8229600" cy="0"/>
          </a:xfrm>
          <a:prstGeom prst="line">
            <a:avLst/>
          </a:prstGeom>
          <a:ln w="64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0" name="Slika 8" descr=""/>
          <p:cNvPicPr/>
          <p:nvPr/>
        </p:nvPicPr>
        <p:blipFill>
          <a:blip r:embed="rId2"/>
          <a:stretch/>
        </p:blipFill>
        <p:spPr>
          <a:xfrm>
            <a:off x="457200" y="6356520"/>
            <a:ext cx="2141640" cy="384120"/>
          </a:xfrm>
          <a:prstGeom prst="rect">
            <a:avLst/>
          </a:prstGeom>
          <a:ln w="0">
            <a:noFill/>
          </a:ln>
        </p:spPr>
      </p:pic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F780B-80E2-402F-95B1-7BCBD734479D}" type="datetime">
              <a:rPr b="0" lang="hr-HR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 type="sldNum" idx="23"/>
          </p:nvPr>
        </p:nvSpPr>
        <p:spPr>
          <a:xfrm>
            <a:off x="3505320" y="634680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91DFF-EC66-40C8-B5D9-078ACD49BFAD}" type="slidenum"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 type="ftr" idx="24"/>
          </p:nvPr>
        </p:nvSpPr>
        <p:spPr>
          <a:xfrm>
            <a:off x="5003280" y="6346800"/>
            <a:ext cx="3683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B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1400" spc="-1" strike="noStrike">
                <a:solidFill>
                  <a:srgbClr val="000000"/>
                </a:solidFill>
                <a:latin typeface="Times New Roman"/>
              </a:rPr>
              <a:t>Služba za rad s mladeži i volonterima H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Line 8"/>
          <p:cNvSpPr/>
          <p:nvPr/>
        </p:nvSpPr>
        <p:spPr>
          <a:xfrm>
            <a:off x="457200" y="1341360"/>
            <a:ext cx="8229600" cy="0"/>
          </a:xfrm>
          <a:prstGeom prst="line">
            <a:avLst/>
          </a:prstGeom>
          <a:ln w="64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Slika 9" descr=""/>
          <p:cNvPicPr/>
          <p:nvPr/>
        </p:nvPicPr>
        <p:blipFill>
          <a:blip r:embed="rId2"/>
          <a:stretch/>
        </p:blipFill>
        <p:spPr>
          <a:xfrm>
            <a:off x="457200" y="6356520"/>
            <a:ext cx="2141640" cy="384120"/>
          </a:xfrm>
          <a:prstGeom prst="rect">
            <a:avLst/>
          </a:prstGeom>
          <a:ln w="0">
            <a:noFill/>
          </a:ln>
        </p:spPr>
      </p:pic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7F8E0-1986-4FF7-8FFE-1A844EAE6B25}" type="datetime">
              <a:rPr b="0" lang="hr-HR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sldNum" idx="26"/>
          </p:nvPr>
        </p:nvSpPr>
        <p:spPr>
          <a:xfrm>
            <a:off x="3505320" y="634680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0AB14-F83A-44F8-9C81-99BB39B7BB8A}" type="slidenum"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ftr" idx="27"/>
          </p:nvPr>
        </p:nvSpPr>
        <p:spPr>
          <a:xfrm>
            <a:off x="5003280" y="6346800"/>
            <a:ext cx="3683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B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1400" spc="-1" strike="noStrike">
                <a:solidFill>
                  <a:srgbClr val="000000"/>
                </a:solidFill>
                <a:latin typeface="Times New Roman"/>
              </a:rPr>
              <a:t>Služba za rad s mladeži i volonterima H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Line 8"/>
          <p:cNvSpPr/>
          <p:nvPr/>
        </p:nvSpPr>
        <p:spPr>
          <a:xfrm>
            <a:off x="457200" y="1285920"/>
            <a:ext cx="8229600" cy="0"/>
          </a:xfrm>
          <a:prstGeom prst="line">
            <a:avLst/>
          </a:prstGeom>
          <a:ln w="64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6" name="Slika 9" descr=""/>
          <p:cNvPicPr/>
          <p:nvPr/>
        </p:nvPicPr>
        <p:blipFill>
          <a:blip r:embed="rId2"/>
          <a:stretch/>
        </p:blipFill>
        <p:spPr>
          <a:xfrm>
            <a:off x="457200" y="6356520"/>
            <a:ext cx="2141640" cy="384120"/>
          </a:xfrm>
          <a:prstGeom prst="rect">
            <a:avLst/>
          </a:prstGeom>
          <a:ln w="0">
            <a:noFill/>
          </a:ln>
        </p:spPr>
      </p:pic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D40D4-4946-468B-9511-D5CAEEF2FC6C}" type="datetime">
              <a:rPr b="0" lang="hr-HR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 type="sldNum" idx="29"/>
          </p:nvPr>
        </p:nvSpPr>
        <p:spPr>
          <a:xfrm>
            <a:off x="3505320" y="634680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9C46C-1C0E-49F7-953B-7C945B0B1D3C}" type="slidenum"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 type="ftr" idx="30"/>
          </p:nvPr>
        </p:nvSpPr>
        <p:spPr>
          <a:xfrm>
            <a:off x="5003280" y="6346800"/>
            <a:ext cx="3683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B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1400" spc="-1" strike="noStrike">
                <a:solidFill>
                  <a:srgbClr val="000000"/>
                </a:solidFill>
                <a:latin typeface="Times New Roman"/>
              </a:rPr>
              <a:t>Služba za rad s mladeži i volonterima H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Line 8"/>
          <p:cNvSpPr/>
          <p:nvPr/>
        </p:nvSpPr>
        <p:spPr>
          <a:xfrm>
            <a:off x="463680" y="1295280"/>
            <a:ext cx="8229600" cy="0"/>
          </a:xfrm>
          <a:prstGeom prst="line">
            <a:avLst/>
          </a:prstGeom>
          <a:ln w="64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9" name="Slika 9" descr=""/>
          <p:cNvPicPr/>
          <p:nvPr/>
        </p:nvPicPr>
        <p:blipFill>
          <a:blip r:embed="rId2"/>
          <a:stretch/>
        </p:blipFill>
        <p:spPr>
          <a:xfrm>
            <a:off x="457200" y="6356520"/>
            <a:ext cx="2141640" cy="384120"/>
          </a:xfrm>
          <a:prstGeom prst="rect">
            <a:avLst/>
          </a:prstGeom>
          <a:ln w="0">
            <a:noFill/>
          </a:ln>
        </p:spPr>
      </p:pic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4D0E5-9B59-454F-9406-055F7B29DC3B}" type="datetime">
              <a:rPr b="0" lang="hr-HR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 type="sldNum" idx="32"/>
          </p:nvPr>
        </p:nvSpPr>
        <p:spPr>
          <a:xfrm>
            <a:off x="3505320" y="634680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2AF49-3720-4280-8AD1-036D92768216}" type="slidenum"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 type="ftr" idx="33"/>
          </p:nvPr>
        </p:nvSpPr>
        <p:spPr>
          <a:xfrm>
            <a:off x="5003280" y="6346800"/>
            <a:ext cx="3683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B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1400" spc="-1" strike="noStrike">
                <a:solidFill>
                  <a:srgbClr val="000000"/>
                </a:solidFill>
                <a:latin typeface="Times New Roman"/>
              </a:rPr>
              <a:t>Služba za rad s mladeži i volonterima H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Line 8"/>
          <p:cNvSpPr/>
          <p:nvPr/>
        </p:nvSpPr>
        <p:spPr>
          <a:xfrm>
            <a:off x="457200" y="1306440"/>
            <a:ext cx="8229600" cy="0"/>
          </a:xfrm>
          <a:prstGeom prst="line">
            <a:avLst/>
          </a:prstGeom>
          <a:ln w="64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2" name="Slika 9" descr=""/>
          <p:cNvPicPr/>
          <p:nvPr/>
        </p:nvPicPr>
        <p:blipFill>
          <a:blip r:embed="rId2"/>
          <a:stretch/>
        </p:blipFill>
        <p:spPr>
          <a:xfrm>
            <a:off x="457200" y="6356520"/>
            <a:ext cx="2141640" cy="384120"/>
          </a:xfrm>
          <a:prstGeom prst="rect">
            <a:avLst/>
          </a:prstGeom>
          <a:ln w="0">
            <a:noFill/>
          </a:ln>
        </p:spPr>
      </p:pic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2BA2C-AB18-4B59-88E4-4773F34B77FE}" type="datetime">
              <a:rPr b="0" lang="hr-HR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sldNum" idx="35"/>
          </p:nvPr>
        </p:nvSpPr>
        <p:spPr>
          <a:xfrm>
            <a:off x="3505320" y="634680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8E8AE-872C-4872-8304-CB9D19D3E524}" type="slidenum"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36"/>
          </p:nvPr>
        </p:nvSpPr>
        <p:spPr>
          <a:xfrm>
            <a:off x="5003280" y="6346800"/>
            <a:ext cx="3683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B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1400" spc="-1" strike="noStrike">
                <a:solidFill>
                  <a:srgbClr val="000000"/>
                </a:solidFill>
                <a:latin typeface="Times New Roman"/>
              </a:rPr>
              <a:t>Služba za rad s mladeži i volonterima H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Line 8"/>
          <p:cNvSpPr/>
          <p:nvPr/>
        </p:nvSpPr>
        <p:spPr>
          <a:xfrm>
            <a:off x="755640" y="3284640"/>
            <a:ext cx="7488360" cy="0"/>
          </a:xfrm>
          <a:prstGeom prst="line">
            <a:avLst/>
          </a:prstGeom>
          <a:ln w="64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Slika 7" descr=""/>
          <p:cNvPicPr/>
          <p:nvPr/>
        </p:nvPicPr>
        <p:blipFill>
          <a:blip r:embed="rId2"/>
          <a:stretch/>
        </p:blipFill>
        <p:spPr>
          <a:xfrm>
            <a:off x="2771640" y="404640"/>
            <a:ext cx="3546720" cy="6350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3"/>
          </p:nvPr>
        </p:nvSpPr>
        <p:spPr>
          <a:xfrm>
            <a:off x="3708000" y="64533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898989"/>
                </a:solidFill>
                <a:latin typeface="Calibri"/>
              </a:rPr>
              <a:t>Lokacija, dat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Line 8"/>
          <p:cNvSpPr/>
          <p:nvPr/>
        </p:nvSpPr>
        <p:spPr>
          <a:xfrm>
            <a:off x="457200" y="1417680"/>
            <a:ext cx="8229600" cy="0"/>
          </a:xfrm>
          <a:prstGeom prst="line">
            <a:avLst/>
          </a:prstGeom>
          <a:ln w="64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Slika 7" descr=""/>
          <p:cNvPicPr/>
          <p:nvPr/>
        </p:nvPicPr>
        <p:blipFill>
          <a:blip r:embed="rId2"/>
          <a:stretch/>
        </p:blipFill>
        <p:spPr>
          <a:xfrm>
            <a:off x="457200" y="6356520"/>
            <a:ext cx="2141640" cy="38412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Num" idx="4"/>
          </p:nvPr>
        </p:nvSpPr>
        <p:spPr>
          <a:xfrm>
            <a:off x="3505320" y="634680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24190-A6B7-4CAD-B465-D3C8DF7964ED}" type="slidenum"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5"/>
          </p:nvPr>
        </p:nvSpPr>
        <p:spPr>
          <a:xfrm>
            <a:off x="5003280" y="6346800"/>
            <a:ext cx="3683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B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1400" spc="-1" strike="noStrike">
                <a:solidFill>
                  <a:srgbClr val="000000"/>
                </a:solidFill>
                <a:latin typeface="Times New Roman"/>
              </a:rPr>
              <a:t>Služba za rad s mladeži i volonterima H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Line 8"/>
          <p:cNvSpPr/>
          <p:nvPr/>
        </p:nvSpPr>
        <p:spPr>
          <a:xfrm>
            <a:off x="722160" y="4408560"/>
            <a:ext cx="7488360" cy="0"/>
          </a:xfrm>
          <a:prstGeom prst="line">
            <a:avLst/>
          </a:prstGeom>
          <a:ln w="64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Slika 7" descr=""/>
          <p:cNvPicPr/>
          <p:nvPr/>
        </p:nvPicPr>
        <p:blipFill>
          <a:blip r:embed="rId2"/>
          <a:stretch/>
        </p:blipFill>
        <p:spPr>
          <a:xfrm>
            <a:off x="2771640" y="404640"/>
            <a:ext cx="3546720" cy="6350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1BE6D-BF5B-4BA2-BB3E-8D1C20D66D51}" type="datetime">
              <a:rPr b="0" lang="hr-HR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7"/>
          </p:nvPr>
        </p:nvSpPr>
        <p:spPr>
          <a:xfrm>
            <a:off x="5003280" y="6346800"/>
            <a:ext cx="3683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B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1400" spc="-1" strike="noStrike">
                <a:solidFill>
                  <a:srgbClr val="000000"/>
                </a:solidFill>
                <a:latin typeface="Times New Roman"/>
              </a:rPr>
              <a:t>Služba za rad s mladeži i volonterima H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Line 8"/>
          <p:cNvSpPr/>
          <p:nvPr/>
        </p:nvSpPr>
        <p:spPr>
          <a:xfrm>
            <a:off x="457200" y="1392120"/>
            <a:ext cx="8229600" cy="0"/>
          </a:xfrm>
          <a:prstGeom prst="line">
            <a:avLst/>
          </a:prstGeom>
          <a:ln w="64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Slika 7" descr=""/>
          <p:cNvPicPr/>
          <p:nvPr/>
        </p:nvPicPr>
        <p:blipFill>
          <a:blip r:embed="rId2"/>
          <a:stretch/>
        </p:blipFill>
        <p:spPr>
          <a:xfrm>
            <a:off x="457200" y="6356520"/>
            <a:ext cx="2141640" cy="38412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sldNum" idx="8"/>
          </p:nvPr>
        </p:nvSpPr>
        <p:spPr>
          <a:xfrm>
            <a:off x="3505320" y="634680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BA525-8AFB-44E2-974B-040A58E36488}" type="slidenum"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9"/>
          </p:nvPr>
        </p:nvSpPr>
        <p:spPr>
          <a:xfrm>
            <a:off x="5003280" y="6346800"/>
            <a:ext cx="3683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B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1400" spc="-1" strike="noStrike">
                <a:solidFill>
                  <a:srgbClr val="000000"/>
                </a:solidFill>
                <a:latin typeface="Times New Roman"/>
              </a:rPr>
              <a:t>Služba za rad s mladeži i volonterima H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Line 8"/>
          <p:cNvSpPr/>
          <p:nvPr/>
        </p:nvSpPr>
        <p:spPr>
          <a:xfrm>
            <a:off x="457200" y="1417680"/>
            <a:ext cx="8229600" cy="0"/>
          </a:xfrm>
          <a:prstGeom prst="line">
            <a:avLst/>
          </a:prstGeom>
          <a:ln w="64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Slika 9" descr=""/>
          <p:cNvPicPr/>
          <p:nvPr/>
        </p:nvPicPr>
        <p:blipFill>
          <a:blip r:embed="rId2"/>
          <a:stretch/>
        </p:blipFill>
        <p:spPr>
          <a:xfrm>
            <a:off x="457200" y="6356520"/>
            <a:ext cx="2141640" cy="384120"/>
          </a:xfrm>
          <a:prstGeom prst="rect">
            <a:avLst/>
          </a:prstGeom>
          <a:ln w="0">
            <a:noFill/>
          </a:ln>
        </p:spPr>
      </p:pic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FC10C-8F46-4878-AF4B-A1AB3CF24069}" type="datetime">
              <a:rPr b="0" lang="hr-HR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sldNum" idx="11"/>
          </p:nvPr>
        </p:nvSpPr>
        <p:spPr>
          <a:xfrm>
            <a:off x="3505320" y="634680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B9A84-AD26-4FB5-B6E5-A9CD80F859E9}" type="slidenum"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ftr" idx="12"/>
          </p:nvPr>
        </p:nvSpPr>
        <p:spPr>
          <a:xfrm>
            <a:off x="5003280" y="6346800"/>
            <a:ext cx="3683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B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1400" spc="-1" strike="noStrike">
                <a:solidFill>
                  <a:srgbClr val="000000"/>
                </a:solidFill>
                <a:latin typeface="Times New Roman"/>
              </a:rPr>
              <a:t>Služba za rad s mladeži i volonterima H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Line 8"/>
          <p:cNvSpPr/>
          <p:nvPr/>
        </p:nvSpPr>
        <p:spPr>
          <a:xfrm>
            <a:off x="457200" y="1417680"/>
            <a:ext cx="8229600" cy="0"/>
          </a:xfrm>
          <a:prstGeom prst="line">
            <a:avLst/>
          </a:prstGeom>
          <a:ln w="64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Slika 7" descr=""/>
          <p:cNvPicPr/>
          <p:nvPr/>
        </p:nvPicPr>
        <p:blipFill>
          <a:blip r:embed="rId2"/>
          <a:stretch/>
        </p:blipFill>
        <p:spPr>
          <a:xfrm>
            <a:off x="457200" y="6356520"/>
            <a:ext cx="2141640" cy="384120"/>
          </a:xfrm>
          <a:prstGeom prst="rect">
            <a:avLst/>
          </a:prstGeom>
          <a:ln w="0">
            <a:noFill/>
          </a:ln>
        </p:spPr>
      </p:pic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F0AB8-D963-4C73-BFB3-FCBBAD2ABEAD}" type="datetime">
              <a:rPr b="0" lang="hr-HR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 type="sldNum" idx="14"/>
          </p:nvPr>
        </p:nvSpPr>
        <p:spPr>
          <a:xfrm>
            <a:off x="3505320" y="634680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15C7A-A496-4973-8E23-6BC2057916CC}" type="slidenum"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 type="ftr" idx="15"/>
          </p:nvPr>
        </p:nvSpPr>
        <p:spPr>
          <a:xfrm>
            <a:off x="5003280" y="6346800"/>
            <a:ext cx="3683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B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1400" spc="-1" strike="noStrike">
                <a:solidFill>
                  <a:srgbClr val="000000"/>
                </a:solidFill>
                <a:latin typeface="Times New Roman"/>
              </a:rPr>
              <a:t>Služba za rad s mladeži i volonterima H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Slika 6" descr=""/>
          <p:cNvPicPr/>
          <p:nvPr/>
        </p:nvPicPr>
        <p:blipFill>
          <a:blip r:embed="rId2"/>
          <a:stretch/>
        </p:blipFill>
        <p:spPr>
          <a:xfrm>
            <a:off x="457200" y="6356520"/>
            <a:ext cx="2141640" cy="384120"/>
          </a:xfrm>
          <a:prstGeom prst="rect">
            <a:avLst/>
          </a:prstGeom>
          <a:ln w="0">
            <a:noFill/>
          </a:ln>
        </p:spPr>
      </p:pic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02D75-1AFD-4D0D-87BC-15FF5D9B5A48}" type="datetime">
              <a:rPr b="0" lang="hr-HR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sldNum" idx="17"/>
          </p:nvPr>
        </p:nvSpPr>
        <p:spPr>
          <a:xfrm>
            <a:off x="3505320" y="634680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1B07A-97D0-4618-8026-C5945DFAA475}" type="slidenum"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ftr" idx="18"/>
          </p:nvPr>
        </p:nvSpPr>
        <p:spPr>
          <a:xfrm>
            <a:off x="5003280" y="6346800"/>
            <a:ext cx="3683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B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1400" spc="-1" strike="noStrike">
                <a:solidFill>
                  <a:srgbClr val="000000"/>
                </a:solidFill>
                <a:latin typeface="Times New Roman"/>
              </a:rPr>
              <a:t>Služba za rad s mladeži i volonterima H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Line 8"/>
          <p:cNvSpPr/>
          <p:nvPr/>
        </p:nvSpPr>
        <p:spPr>
          <a:xfrm>
            <a:off x="457200" y="1308240"/>
            <a:ext cx="8229600" cy="0"/>
          </a:xfrm>
          <a:prstGeom prst="line">
            <a:avLst/>
          </a:prstGeom>
          <a:ln w="64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Slika 9" descr=""/>
          <p:cNvPicPr/>
          <p:nvPr/>
        </p:nvPicPr>
        <p:blipFill>
          <a:blip r:embed="rId2"/>
          <a:stretch/>
        </p:blipFill>
        <p:spPr>
          <a:xfrm>
            <a:off x="457200" y="6356520"/>
            <a:ext cx="2141640" cy="384120"/>
          </a:xfrm>
          <a:prstGeom prst="rect">
            <a:avLst/>
          </a:prstGeom>
          <a:ln w="0">
            <a:noFill/>
          </a:ln>
        </p:spPr>
      </p:pic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679FF-45D2-4122-A26F-1E223F831C2F}" type="datetime">
              <a:rPr b="0" lang="hr-HR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sldNum" idx="20"/>
          </p:nvPr>
        </p:nvSpPr>
        <p:spPr>
          <a:xfrm>
            <a:off x="3505320" y="634680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5B6FB-52D4-41D1-B768-56DD22091B57}" type="slidenum"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 type="ftr" idx="21"/>
          </p:nvPr>
        </p:nvSpPr>
        <p:spPr>
          <a:xfrm>
            <a:off x="5003280" y="6346800"/>
            <a:ext cx="3683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B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1400" spc="-1" strike="noStrike">
                <a:solidFill>
                  <a:srgbClr val="000000"/>
                </a:solidFill>
                <a:latin typeface="Times New Roman"/>
              </a:rPr>
              <a:t>Služba za rad s mladeži i volonterima H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hck.hr/" TargetMode="External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Line 8"/>
          <p:cNvSpPr/>
          <p:nvPr/>
        </p:nvSpPr>
        <p:spPr>
          <a:xfrm>
            <a:off x="755640" y="3284640"/>
            <a:ext cx="7488360" cy="0"/>
          </a:xfrm>
          <a:prstGeom prst="line">
            <a:avLst/>
          </a:prstGeom>
          <a:ln w="64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Text Box 11"/>
          <p:cNvSpPr/>
          <p:nvPr/>
        </p:nvSpPr>
        <p:spPr>
          <a:xfrm>
            <a:off x="2124000" y="6381720"/>
            <a:ext cx="489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808080"/>
                </a:solidFill>
                <a:latin typeface="Arial"/>
                <a:ea typeface="Arial"/>
              </a:rPr>
              <a:t>Zagreb, 12. siječanj 202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14520" y="2205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3600" spc="-1" strike="noStrike">
                <a:solidFill>
                  <a:srgbClr val="7f7f7f"/>
                </a:solidFill>
                <a:latin typeface="Arial"/>
              </a:rPr>
              <a:t>Odgoj za humanost od malih nog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 type="subTitle"/>
          </p:nvPr>
        </p:nvSpPr>
        <p:spPr>
          <a:xfrm>
            <a:off x="1300320" y="3357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BA" sz="2400" spc="-1" strike="noStrike">
              <a:solidFill>
                <a:srgbClr val="89898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3600" spc="-1" strike="noStrike">
                <a:solidFill>
                  <a:srgbClr val="000000"/>
                </a:solidFill>
                <a:latin typeface="Arial"/>
              </a:rPr>
              <a:t>Kontakt informacij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1600" spc="-1" strike="noStrike">
                <a:solidFill>
                  <a:srgbClr val="000000"/>
                </a:solidFill>
                <a:latin typeface="Arial"/>
              </a:rPr>
              <a:t>Za potrebe Hrvatskog Crvenog križ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1600" spc="-1" strike="noStrike">
                <a:solidFill>
                  <a:srgbClr val="000000"/>
                </a:solidFill>
                <a:latin typeface="Arial"/>
              </a:rPr>
              <a:t>Izradila: Ivana Zadražil Vorberg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1600" spc="-1" strike="noStrike">
                <a:solidFill>
                  <a:srgbClr val="000000"/>
                </a:solidFill>
                <a:latin typeface="Arial"/>
              </a:rPr>
              <a:t>Služba za rad s mladima, volonterima i Škola H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l</a:t>
            </a:r>
            <a:r>
              <a:rPr b="0" lang="hr-BA" sz="1600" spc="-1" strike="noStrike">
                <a:solidFill>
                  <a:srgbClr val="000000"/>
                </a:solidFill>
                <a:latin typeface="Arial"/>
              </a:rPr>
              <a:t>ic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rvenog križa 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 000 Zagre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l. </a:t>
            </a:r>
            <a:r>
              <a:rPr b="0" lang="hr-BA" sz="1600" spc="-1" strike="noStrike">
                <a:solidFill>
                  <a:srgbClr val="000000"/>
                </a:solidFill>
                <a:latin typeface="Arial"/>
              </a:rPr>
              <a:t>01 4655 814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 (117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www.hck.h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s://www.facebook.com/HrvatskiCrvenikriz.CroatianRedCross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Rezervirano mjesto broja slajda 3"/>
          <p:cNvSpPr/>
          <p:nvPr/>
        </p:nvSpPr>
        <p:spPr>
          <a:xfrm>
            <a:off x="3505320" y="63468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98D26-53A9-46FD-B5A6-D9BC55DE147C}" type="slidenum"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Rezervirano mjesto podnožja 4"/>
          <p:cNvSpPr/>
          <p:nvPr/>
        </p:nvSpPr>
        <p:spPr>
          <a:xfrm>
            <a:off x="5003640" y="6346800"/>
            <a:ext cx="3683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1400" spc="-1" strike="noStrike">
                <a:solidFill>
                  <a:srgbClr val="000000"/>
                </a:solidFill>
                <a:latin typeface="Arial"/>
                <a:ea typeface="Arial"/>
              </a:rPr>
              <a:t>Služba za rad s mladeži i volonterima H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85800" y="2421000"/>
            <a:ext cx="7772400" cy="115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3600" spc="-1" strike="noStrike">
                <a:solidFill>
                  <a:srgbClr val="7f7f7f"/>
                </a:solidFill>
                <a:latin typeface="Arial"/>
              </a:rPr>
              <a:t>Hvala na pozornosti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subTitle"/>
          </p:nvPr>
        </p:nvSpPr>
        <p:spPr>
          <a:xfrm>
            <a:off x="130032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2400" spc="-1" strike="noStrike">
                <a:solidFill>
                  <a:srgbClr val="898989"/>
                </a:solidFill>
                <a:latin typeface="Arial"/>
              </a:rPr>
              <a:t>Služba za rad s mladima, volonterima </a:t>
            </a:r>
            <a:br>
              <a:rPr sz="2400"/>
            </a:br>
            <a:r>
              <a:rPr b="0" lang="hr-BA" sz="2400" spc="-1" strike="noStrike">
                <a:solidFill>
                  <a:srgbClr val="898989"/>
                </a:solidFill>
                <a:latin typeface="Arial"/>
              </a:rPr>
              <a:t>i Škola Hrvatskog Crvenog križ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3200" spc="-1" strike="noStrike">
                <a:solidFill>
                  <a:srgbClr val="000000"/>
                </a:solidFill>
                <a:latin typeface="Arial"/>
              </a:rPr>
              <a:t>Suradnja HCK sa MZO i AZO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od 2001. god. HCK provodi edukacije iz područja Humanih vrednota uz suglasnost MZO unutar kurikuluma GO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Ugovor o suradnji HCK - AZOO obnovljen (potpisan) </a:t>
            </a:r>
            <a:br>
              <a:rPr sz="2200"/>
            </a:b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01. srpnja 2020. godi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MZO je u cjelovitoj kurikularnoj reformi prepoznao važnost tema Hrvatskog Crvenog križ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teme programa „Humane vrednote” integrirani su dio gotovo svih međupredmetnih tema u osnovnoj i srednjoj škol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Rezervirano mjesto broja slajda 4"/>
          <p:cNvSpPr/>
          <p:nvPr/>
        </p:nvSpPr>
        <p:spPr>
          <a:xfrm>
            <a:off x="5003640" y="6346800"/>
            <a:ext cx="3683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0BE35-1BC4-47DD-9EE7-FBD2DD48D501}" type="slidenum"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3200" spc="-1" strike="noStrike">
                <a:solidFill>
                  <a:srgbClr val="000000"/>
                </a:solidFill>
                <a:latin typeface="Arial"/>
              </a:rPr>
              <a:t>Suradnja HCK sa MZO i AZO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suradnja se ostvaruje u područjima predškolskog i školskog odgoja i obrazovanja te s određenim visokim učilišti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volonteri i djelatnici društava Hrvatskog Crvenog križa (131 društvo u RH) na području svog djelovanja (grad, općina, županija) u dogovoru sa odgojno-obrazovnim ustanovama provode edukacije i radionice za djelatnike odgojno-obrazovnih ustanova, roditelje, skrbnike, djecu i mla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Rezervirano mjesto broja slajda 4"/>
          <p:cNvSpPr/>
          <p:nvPr/>
        </p:nvSpPr>
        <p:spPr>
          <a:xfrm>
            <a:off x="5003640" y="6346800"/>
            <a:ext cx="3683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204C8-0C24-4F8B-8EA0-75F8AFC7287C}" type="slidenum"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3200" spc="-1" strike="noStrike">
                <a:solidFill>
                  <a:srgbClr val="000000"/>
                </a:solidFill>
                <a:latin typeface="Arial"/>
              </a:rPr>
              <a:t>Suradnja HCK sa MZO i AZO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c00000"/>
                </a:solidFill>
                <a:latin typeface="Arial"/>
              </a:rPr>
              <a:t>TEME HCK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priprema za izvanredne situacije, prva pomoć, klimatske promjene, prevencija trgovanja ljudima, prihvaćanje različitosti, azil i migracije, prevencija diskriminacije, predrasude, stereotipi, interkulturalnost, ljudska prava, solidarnost i volonterstvo, komunikacijske vještine, ravnopravnost spolova, zaštita zdravlja (COVID -19), zdravi stilovi življenja, prevencija ovisnosti…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Rezervirano mjesto broja slajda 4"/>
          <p:cNvSpPr/>
          <p:nvPr/>
        </p:nvSpPr>
        <p:spPr>
          <a:xfrm>
            <a:off x="5003640" y="6346800"/>
            <a:ext cx="3683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242DE-8A04-418B-80BB-7287640F4231}" type="slidenum"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3200" spc="-1" strike="noStrike">
                <a:solidFill>
                  <a:srgbClr val="000000"/>
                </a:solidFill>
                <a:latin typeface="Arial"/>
              </a:rPr>
              <a:t>Suradnja HCK sa MZO i AZO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c00000"/>
                </a:solidFill>
                <a:latin typeface="Arial"/>
              </a:rPr>
              <a:t>PROGRAMI HCK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natjecanje mladih Hrvatskog Crvenog križ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rogram“ Odgoj za humanost od malih nogu“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rogram „Interdisciplinarne terenske nastave za učenike viših razreda osnovnih škola i za učenike srednjih škola u Edukacijskom centru HCK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rogram „Sigurnije škole i vrtići”: sigurnija-djeca.hck.h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organizacija i sudjelovanje na konferencijama, stručnim skupovima i edukacijama za odgojitelje, nastavnike, stručne suradnike i druge djelatnike u vrtićima i škola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Rezervirano mjesto broja slajda 4"/>
          <p:cNvSpPr/>
          <p:nvPr/>
        </p:nvSpPr>
        <p:spPr>
          <a:xfrm>
            <a:off x="5003640" y="6346800"/>
            <a:ext cx="3683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93B16-C795-47F4-A6BE-F571B723FFC4}" type="slidenum"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O programu</a:t>
            </a:r>
            <a:br>
              <a:rPr sz="3200"/>
            </a:b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Odgoj za humanost od malih nog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 txBox="1"/>
          <p:nvPr/>
        </p:nvSpPr>
        <p:spPr>
          <a:xfrm>
            <a:off x="468000" y="1413000"/>
            <a:ext cx="814716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Slide Number Placeholder 3"/>
          <p:cNvSpPr/>
          <p:nvPr/>
        </p:nvSpPr>
        <p:spPr>
          <a:xfrm>
            <a:off x="3505320" y="63468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024A6-2772-4D9E-93D2-719FCF2D06D5}" type="slidenum">
              <a:rPr b="0" lang="hr-H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Footer Placeholder 4"/>
          <p:cNvSpPr/>
          <p:nvPr/>
        </p:nvSpPr>
        <p:spPr>
          <a:xfrm>
            <a:off x="5003640" y="6346800"/>
            <a:ext cx="3683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1400" spc="-1" strike="noStrike">
                <a:solidFill>
                  <a:srgbClr val="000000"/>
                </a:solidFill>
                <a:latin typeface="Arial"/>
              </a:rPr>
              <a:t>Služba za rad s mladeži i volonterima H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Rectangle 5"/>
          <p:cNvSpPr/>
          <p:nvPr/>
        </p:nvSpPr>
        <p:spPr>
          <a:xfrm>
            <a:off x="468360" y="1341360"/>
            <a:ext cx="8351640" cy="46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za program Odgoj za humanost od malih nogu provedeno je testiranje tijekom  2016. u 10 vrtića na ukupno  877 dje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riručnik i program stručnog usavršavanja za odgojitelje odobren u rujnu 2017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Svrha program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000" spc="-1" strike="noStrike">
                <a:solidFill>
                  <a:srgbClr val="000000"/>
                </a:solidFill>
                <a:latin typeface="Arial"/>
              </a:rPr>
              <a:t>Program Odgoj za humanost omogućava djeci rane i predškolske dobi stjecanje odgoja za humaniji, zdraviji i sigurniji živo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3200" spc="-1" strike="noStrike">
                <a:solidFill>
                  <a:srgbClr val="000000"/>
                </a:solidFill>
                <a:latin typeface="Arial"/>
              </a:rPr>
              <a:t>Sadržaj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 txBox="1"/>
          <p:nvPr/>
        </p:nvSpPr>
        <p:spPr>
          <a:xfrm>
            <a:off x="456840" y="1628640"/>
            <a:ext cx="8085240" cy="394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2000" spc="-1" strike="noStrike">
                <a:solidFill>
                  <a:srgbClr val="000000"/>
                </a:solidFill>
                <a:latin typeface="Arial"/>
              </a:rPr>
              <a:t>Humane vredno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2000" spc="-1" strike="noStrike">
                <a:solidFill>
                  <a:srgbClr val="000000"/>
                </a:solidFill>
                <a:latin typeface="Arial"/>
              </a:rPr>
              <a:t>Priprema za izvanredne situaci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2000" spc="-1" strike="noStrike">
                <a:solidFill>
                  <a:srgbClr val="000000"/>
                </a:solidFill>
                <a:latin typeface="Arial"/>
              </a:rPr>
              <a:t>Zaštita zdravl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2000" spc="-1" strike="noStrike">
                <a:solidFill>
                  <a:srgbClr val="000000"/>
                </a:solidFill>
                <a:latin typeface="Arial"/>
              </a:rPr>
              <a:t>Prevencija trgovanja ljudi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Rezervirano mjesto broja slajda 3"/>
          <p:cNvSpPr/>
          <p:nvPr/>
        </p:nvSpPr>
        <p:spPr>
          <a:xfrm>
            <a:off x="3505320" y="63468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D80B3-DA9E-4DA0-8E87-1096E8B3C1E8}" type="slidenum"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Rezervirano mjesto podnožja 4"/>
          <p:cNvSpPr/>
          <p:nvPr/>
        </p:nvSpPr>
        <p:spPr>
          <a:xfrm>
            <a:off x="5003640" y="6346800"/>
            <a:ext cx="3683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1400" spc="-1" strike="noStrike">
                <a:solidFill>
                  <a:srgbClr val="000000"/>
                </a:solidFill>
                <a:latin typeface="Arial"/>
                <a:ea typeface="Arial"/>
              </a:rPr>
              <a:t>Služba za rad s mladeži i volonterima H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Program je namijenjen: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Stručnjacima ( 692  odgojno obrazovna djelatnika  educirana tijekom 2020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Roditelji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Volonterima CK (koji imaju završenu intenzivnu edukaciju iz programa Odgoj za humanost od malih nogu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rogram mogu provoditi volonteri uz pristanak odgojno-obrazovnih ustanova (prema odobrenju MZ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rogram se može provoditi pri društvima Crvenog križa i na taj način obuhvatiti djecu koja su izvan odgojno-obrazovnog susta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Slide Number Placeholder 3"/>
          <p:cNvSpPr/>
          <p:nvPr/>
        </p:nvSpPr>
        <p:spPr>
          <a:xfrm>
            <a:off x="3505320" y="63468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2BFA3-8D7D-4DFB-A792-86DDE10C1179}" type="slidenum"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Footer Placeholder 4"/>
          <p:cNvSpPr/>
          <p:nvPr/>
        </p:nvSpPr>
        <p:spPr>
          <a:xfrm>
            <a:off x="5003640" y="6346800"/>
            <a:ext cx="3683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1400" spc="-1" strike="noStrike">
                <a:solidFill>
                  <a:srgbClr val="000000"/>
                </a:solidFill>
                <a:latin typeface="Arial"/>
                <a:ea typeface="Arial"/>
              </a:rPr>
              <a:t>Služba za rad s mladeži i volonterima H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"/>
          <p:cNvSpPr txBox="1"/>
          <p:nvPr/>
        </p:nvSpPr>
        <p:spPr>
          <a:xfrm>
            <a:off x="178920" y="259920"/>
            <a:ext cx="871380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rogram se bazira na socio-emocionalnom i spoznajnom razvojnom područj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Implementacija programa  podrazumijeva razvoj kompetenci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U svakodnevnim životno-praktičnim situacijama (iskustveno učenj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Razvoj kritičkog mišljen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Odgovornos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Emocionalna angažiranost djete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Učenje cijelim tijelo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riručnik –  dosadašnja iskustva potvrđuju da je koristan i inspirativan instru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redložene aktivnosti – “izazov za osmišljavanje projekata“ </a:t>
            </a:r>
            <a:r>
              <a:rPr b="0" i="1" lang="hr-HR" sz="1200" spc="-1" strike="noStrike">
                <a:solidFill>
                  <a:srgbClr val="000000"/>
                </a:solidFill>
                <a:latin typeface="Arial"/>
              </a:rPr>
              <a:t>(mr.sc. A. Silić, Odgoj za humanost od malih nogu, 2017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Podudarnost sa RPOO: uključenost djece s teškoćama u razvoju u programe vrtića (različitost, skrbni odnosi), osvještavanje djece o dječjim pravima/odgovornostima/obvezama, izgrađivanje vlastitog identiteta – temelj za poštivanje tuđ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1600" spc="-1" strike="noStrike">
                <a:solidFill>
                  <a:srgbClr val="000000"/>
                </a:solidFill>
                <a:latin typeface="Arial"/>
              </a:rPr>
              <a:t>Svi zakonski dokumenti obvezuju nas na ostvarivanje dječjih prava i unapređivanje uvjeta za njihovo ostvarivanj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Slide Number Placeholder 3"/>
          <p:cNvSpPr/>
          <p:nvPr/>
        </p:nvSpPr>
        <p:spPr>
          <a:xfrm>
            <a:off x="3505320" y="63468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F9002-49CF-494E-9640-43D1CDE980A8}" type="slidenum"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5003640" y="6346800"/>
            <a:ext cx="3683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1400" spc="-1" strike="noStrike">
                <a:solidFill>
                  <a:srgbClr val="000000"/>
                </a:solidFill>
                <a:latin typeface="Arial"/>
                <a:ea typeface="Arial"/>
              </a:rPr>
              <a:t>Služba za rad s mladeži i volonterima H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5T07:51:09Z</dcterms:created>
  <dc:creator>Vukusic</dc:creator>
  <dc:description/>
  <dc:language>en-US</dc:language>
  <cp:lastModifiedBy>Ivana Zadražil-Vorberger</cp:lastModifiedBy>
  <cp:lastPrinted>2021-01-11T14:06:23Z</cp:lastPrinted>
  <dcterms:modified xsi:type="dcterms:W3CDTF">2021-03-15T11:00:52Z</dcterms:modified>
  <cp:revision>391</cp:revision>
  <dc:subject/>
  <dc:title>EDUKACIJE  Hrvatski Crveni križ  Služba za EU fondove i edukaciju</dc:title>
</cp:coreProperties>
</file>