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F2B97-334E-430E-B2F4-9BBF165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54F2-3E5C-4DD7-BA84-D29CF1B8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8A63D-FDE9-4F62-81C0-D1B1F6B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E4F6-4996-478B-9818-5E67038E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4D1E-0F8B-45C9-94CC-71BDD39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50E8-2BCA-46B9-9288-262013D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0685-2BC7-401E-BFE3-CBB561E8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CF32D-81C0-4677-8EFB-0C96F96B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A787-48E9-4241-8025-D7514850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49212-E66D-45E3-A939-8485E09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90F07-D617-422F-9674-FBF6401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3D453-E347-40AA-8A97-046FB4E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1FEF-C7B1-4118-9860-8679DC7B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685BD-F516-44B0-8F7B-D2B5B4C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1D2E-A34F-4841-915E-5A25D09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97C81-4EE2-4646-A633-A436F3D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F2E52-8FDB-4764-AA69-6E524F3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5A62-EE9C-429D-807B-2B52C84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870B-266A-4490-9FA8-A5FEF97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CCEC6-2973-4D40-886E-7E93A216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EE04B-225C-4209-AF17-8E67ECFC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7042-FE9B-447F-8D12-746176B2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3CE2-155B-4B2A-AC9B-3C14E77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29C15-AACA-4B91-9B78-AA7DD54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70C3-C770-4027-BB3F-8F67C6E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A9F46-9126-4179-98BB-0C5651F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B7ACC-7E85-4C36-BA7C-8AAA49B8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45054-9CEA-4927-80BE-0EF0FC2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CF0D-A9DB-4BD8-8366-AE013C3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89F4-8765-49C0-A68D-0116EC8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CF6EC-FEF3-4B4F-8D95-33F4463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C80A5-D4FE-4D0D-AE85-5ABAEBA8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6130B-E671-4561-8E69-8CC12CAB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62C95-3168-4320-965D-DC6DFCC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B1EA3-4196-44D7-A64F-ED4660C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8DB98-BAE9-4E3D-8573-E3C7FECE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38036-9F9A-429E-81D2-321D4BEF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C8370-38ED-423D-BEBB-D67E964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D58A1-91A5-416D-A1ED-55B62E8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3947A-2D1B-40E4-958F-75E7B97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86F0C-A019-4C4F-91BB-F3A8E98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0F244-DB18-4E0F-8D1B-4C8D5E9C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1ADB1-8A54-4A12-8808-10533E9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8E0D1-C6C6-407B-BEEB-771410DD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A910-661C-45E0-966E-D08AE372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E6269-A2EB-4B90-9655-25648AC4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49749-4D77-41B6-8387-5DB3BB7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246F-E3C1-444B-9EAD-631D57CB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41CA-560B-4C4A-B372-A3B30FA2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39A49-94C0-4BFB-B9B8-6DF5531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446A6-B6D5-4C44-95BB-40B25553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FB36-AE9A-4A59-BB9C-18E82B2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22C92-59B2-41DE-B05B-9911968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D2FE0-E371-4B7E-AE86-581E9BD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CB8AD-BA22-4E46-8D15-3D7EFEE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15408-98E5-4D89-AAC5-DC6A5ED8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E7F9-9428-47B2-8A85-FBA074CB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388E0-A436-444C-BFFF-C3B1FB0D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C554E-2C6A-4BD5-ABE6-44FC23C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D9ABE-90F5-475B-957F-8551A79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BFB92-F930-45CA-97D4-57C49A1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08DB5-AB8C-4E88-A863-B164868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A4328-DFAE-4CE7-91FE-C603A04B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1CE1-40B1-4472-9A3E-9BA29A4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0D1F2-9A27-48D8-9FD2-390A0B9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E31A3-62D9-41BE-9DCE-8EB1D57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18382-FE90-44F1-BA3F-78FB29BD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B943D-DFC5-4A3D-85E5-B7EC3A3D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3B204-BF76-40B6-A60E-78BCEC2E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5A86E-CC70-4146-83BE-018D500119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46B8-9A8D-44DC-BAC1-27194CD56A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506A3-1E87-4E7A-BBBA-44F12791EA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8C89-A477-40C6-8B17-59901B02D0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7605B-717E-4BF3-9F7E-99461C04B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59D8E-9C0A-4241-BDDB-8573247D57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A196B-C728-4CD4-A69C-09496D39E1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E7D8-3926-4C58-9DE8-7FD9EF1A9F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46EA-1E1C-439D-BB3C-53EF6A6E3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8EC2-EA09-4037-BA0F-DA349A156D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2D7E-DC6B-49CC-AC03-9CA228FE19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F5C3-B0CA-4D7B-BFB3-E82498FB86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220F-647D-434C-8C6F-984CF0DEC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4739-B9E8-4B5F-9D22-081CFD272A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37C5-08CE-4A50-8781-C92D58D539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AE6D-FE19-4D48-A1EB-F70984CBB7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415D-D675-45D1-81A2-B50613B1AF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33D3-0520-432C-8BCE-5E7D2502BF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E22E-65F6-4BE9-9586-143B042F48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3811-947F-4996-8BBC-FB3B68B7BA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1100-18F1-4DA5-B943-E9799DBFE0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C46F-D56A-4CF6-B0C9-4CB9DB02EA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BEE2-F9F4-4FAD-A318-4D6DBAF09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8CFD-64C0-4A6D-86B5-A404D55E97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771D-AF39-4E31-9E7D-40AF7771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4A2C-B637-4DFE-9390-FED87DE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AACE-1E9D-44E4-8311-6194E264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A567-3799-49BE-BCEF-7A4DAB9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26BD-003D-4A06-A534-FA3C068D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51EB-8B83-472E-92A1-07DEBFFB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A730-ABD1-426D-81B9-A61C05D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23AB-E4DB-4C18-B955-B4B3FEE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F412-F034-40F7-8EC1-81B0006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799F-C12F-46B3-A2F6-6388C40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94A6-E82E-4A4C-9071-6A742EE0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14AD8-56BD-4E1E-8C09-A7416182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8301-0F08-4317-BDBB-87090094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F9AFE-E0D0-4E73-A61A-31D68D8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8ACD-E92A-440A-9B87-643FD0B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F866-AEED-4BEB-AEAD-565A2DC4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51E7-6FC0-4471-9B01-8735D10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60D8-E535-4F20-A8AF-5BB323D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D43B-2996-4015-9AE8-97390A9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53360-9722-471F-BE2C-F48A663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DC46-282A-47B1-9E91-492ED2A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D189-36F1-45A4-85CA-AACA633A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38C9-2BE9-4AC6-BF33-8F47738D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B984-33C8-4AB6-8BDD-0705114A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8131-9E1F-4D9C-B80E-FB6DE35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CF81-2B03-4A62-86AA-9562010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DD00-E086-4984-B259-6CB3134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A13E-7124-448A-862C-55DADB6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8A27-BA75-459C-B018-4DEF053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D8A8D-D6F8-401C-8CA7-5CA655F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489E-130E-4ED5-8E51-3707796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84DE-2D8C-4428-8A07-C8AB25E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6AC8-2814-4B94-A679-BC94968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0711-6022-4863-97FC-166B444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53A6-D79A-4AF8-A579-82E8946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5766-729D-4118-9DE4-977031B5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4660-C416-4E94-8E07-19803152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2DC2-11AB-405A-944F-75E79E6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22B0-8FE9-4DCE-BAAF-8153C0E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6A7B-1826-49F4-8442-FEBEBA4C13A3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D4A-F452-4305-852C-2B343657661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577-6E6A-49CD-93CF-02E4D11ED93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B24-DB67-43BC-9A17-F4F4BFEFF643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CE9-1C76-4A8D-BF76-649FF2EACA0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064-D2DC-4D2C-8A15-13AEC9537620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DA0-7AC7-447D-8916-56383901EF9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503E-9F42-43D0-B638-C7270D9605B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A10-2391-4EE8-A5E0-FA8CC7152B5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AAD-9A22-4E1B-AC0D-0A87BDEFB3A9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874A-D757-46DC-9127-247C86771DE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52FD-3648-4EF4-990A-BDC53B63E52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280-B178-413E-B24D-51A707F426CA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2EA-8A33-4E3F-B9D3-58738C0F94F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CB7-4186-4435-A08B-89E00BDFBA7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E6F1-5F27-43D6-BEC0-0DBFCB684BF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EB8-9761-4B6F-9684-A21682CDC1D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7F61-CF71-4188-A7A9-1351C3D9FBC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5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324000" y="6346440"/>
            <a:ext cx="21254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16F-1922-4B4A-99A7-82A973C89D9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DF7C-9DF4-48FE-BDAC-6FDAC0B9DB5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815E-F73A-4052-AC09-8B646A308FB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hck-darda@gmail.hr" TargetMode="External"/><Relationship Id="rId2" Type="http://schemas.openxmlformats.org/officeDocument/2006/relationships/hyperlink" Target="mailto:hck-darda@gmail.hr" TargetMode="External"/><Relationship Id="rId3" Type="http://schemas.openxmlformats.org/officeDocument/2006/relationships/hyperlink" Target="http://www.hck-darda.com/" TargetMode="External"/><Relationship Id="rId4" Type="http://schemas.openxmlformats.org/officeDocument/2006/relationships/hyperlink" Target="http://www.hck.hr/" TargetMode="External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124000" y="638172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Darda</a:t>
            </a:r>
            <a:r>
              <a:rPr b="1" lang="hr-HR" sz="1200" spc="-1" strike="noStrike">
                <a:solidFill>
                  <a:srgbClr val="808080"/>
                </a:solidFill>
                <a:latin typeface="Arial"/>
                <a:ea typeface="Arial"/>
              </a:rPr>
              <a:t>,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18. ožujka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f7f7f"/>
                </a:solidFill>
                <a:latin typeface="Arial"/>
              </a:rPr>
              <a:t>Moja sretna ob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Programi Hrvatskog Crvenog kri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namijenjeni za pomoć obitel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vori financ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8. i 2019. godine program “Moja sretna obitelj” je financiran sredstvima lokalnih proračuna jedinica lokalne samouprave zbog prepoznate potrebe za pružanjem ovakvog oblika usluga u lokalnoj zajed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20. godine sklopljen je trogodišnji ugovor s *Ministarstvom za demografiju, obitelj, mlade i socijalnu poli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BF98-550B-451D-B962-113B86D8899F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terapijski susreti obitelji djece s teškoć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1" descr=""/>
          <p:cNvPicPr/>
          <p:nvPr/>
        </p:nvPicPr>
        <p:blipFill>
          <a:blip r:embed="rId1"/>
          <a:stretch/>
        </p:blipFill>
        <p:spPr>
          <a:xfrm>
            <a:off x="2101680" y="2421000"/>
            <a:ext cx="4940640" cy="3705120"/>
          </a:xfrm>
          <a:prstGeom prst="rect">
            <a:avLst/>
          </a:prstGeom>
          <a:ln w="0">
            <a:noFill/>
          </a:ln>
        </p:spPr>
      </p:pic>
      <p:sp>
        <p:nvSpPr>
          <p:cNvPr id="626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C8EC-3CA7-4DBE-B140-F2608B3975F4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organizirana igra za djecu s teškoća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Content Placeholder 5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545080" cy="3344760"/>
          </a:xfrm>
          <a:prstGeom prst="rect">
            <a:avLst/>
          </a:prstGeom>
          <a:ln w="0">
            <a:noFill/>
          </a:ln>
        </p:spPr>
      </p:pic>
      <p:sp>
        <p:nvSpPr>
          <p:cNvPr id="63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CD09-B187-4F2B-95AD-D358B6E0CD90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lj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lj terapijskih susreta je prvenstveno  osnaživanje cijele obitelji, ali i pružanje informacija o pravima i mogućnostima obitelji koje imaju djecu s teškoćama odnosno odraslu djecu s invalidit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2462-9495-4069-8AD2-E3E9F9ADAD9C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az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cija korisnika za dolazak i razgovor sa drug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iguravanje trajnog oblika financiranja programa i adekvatnog prostor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abir osoba koje će raditi s korisnic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čnjak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o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 u ciklu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935-9422-4C69-83F0-01EEA8776CC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dena dva ciklusa osnaživanja ob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e dvije grupe korisnika: “stari i nov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a grupa polaznika “roditelji odrasle dje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tijeku 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reći ciklus rada s kombinacijom obje gr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cija za provođenje socijalnih uslu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2F4-89AF-4D08-83B1-ECF6E22CE23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327E-6F6C-474A-9277-038B3B3CE45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suradnji s CZSS i lokalnim udrugama istražiti potrebe i mogućnosti u svom okruž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naći educirane (stalne) volontere koji će pomoći stručnom osobl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Što je više moguće, unaprijed dobro pripremiti tim na izazove rada sa obiteljima djece s teškoć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FDBF-0E25-42D8-9770-9CAA44B4097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6840" y="1417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gurati financije za cijeli ciklus jer se prekidom rada može učiniti veća šteta nego da nije urađeno n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komunikaciji s korisnicima odabrati program rada za roditelje, unaprijed samo pripremiti op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misliti način praćenja i potpore korisnicima po završetku cikl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7AB-7222-443C-B07C-F5A1318EAE7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2B03-BFA1-47C6-A2DF-A9CD3DDEB2D6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Content Placeholder 5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18644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196640"/>
            <a:ext cx="8569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komunikaciji sa predstavnicima škola, vrtića, zdravstvenih i socijalnih ustanova uočena je potreba za savjetovanjem roditelja u lokal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krenut je pilot projekt “Odgovorno roditeljstvo” 2015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kt je podrazumijevao diseminaciju informacija o roditeljstvu kroz osam različitih modula u lokalnim vrtićima DV Radost Darda i DV Grlica Bilje nakon čega je nastala publik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i priručnik za roditel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285-52BF-4EE4-AFB8-7D0B791C9204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o/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ka Poslon, mag. soc.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. I. Krstitelja 11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326 Dar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31/740-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ck-darda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@gmail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ck-darda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hck.h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9F5-5AD8-4866-89F7-0A35F3B1F1D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ranjivija skupina roditelja su bili naši  najrevniji polaz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cijom su utvrđeni interesi skupine polazn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tala je ideja o programu “Moja sretna obitelj” za roditelje djece s teškoćam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3FE3-88DB-4C9A-9760-C72465009AEE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1057320" y="1011240"/>
            <a:ext cx="2830320" cy="21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1332000" y="3373560"/>
            <a:ext cx="1908000" cy="2482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3"/>
          <a:stretch/>
        </p:blipFill>
        <p:spPr>
          <a:xfrm>
            <a:off x="3460680" y="3460680"/>
            <a:ext cx="3192480" cy="23954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"/>
          <p:cNvPicPr/>
          <p:nvPr/>
        </p:nvPicPr>
        <p:blipFill>
          <a:blip r:embed="rId4"/>
          <a:stretch/>
        </p:blipFill>
        <p:spPr>
          <a:xfrm>
            <a:off x="4132440" y="1011240"/>
            <a:ext cx="1685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"/>
          <p:cNvPicPr/>
          <p:nvPr/>
        </p:nvPicPr>
        <p:blipFill>
          <a:blip r:embed="rId1"/>
          <a:stretch/>
        </p:blipFill>
        <p:spPr>
          <a:xfrm>
            <a:off x="638280" y="1038240"/>
            <a:ext cx="635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4619520" y="1181160"/>
            <a:ext cx="3372120" cy="4494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649440" y="1181160"/>
            <a:ext cx="33699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"/>
          <p:cNvPicPr/>
          <p:nvPr/>
        </p:nvPicPr>
        <p:blipFill>
          <a:blip r:embed="rId1"/>
          <a:stretch/>
        </p:blipFill>
        <p:spPr>
          <a:xfrm>
            <a:off x="349200" y="11732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149720" y="1770120"/>
            <a:ext cx="4584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" descr=""/>
          <p:cNvPicPr/>
          <p:nvPr/>
        </p:nvPicPr>
        <p:blipFill>
          <a:blip r:embed="rId1"/>
          <a:stretch/>
        </p:blipFill>
        <p:spPr>
          <a:xfrm>
            <a:off x="252360" y="2228760"/>
            <a:ext cx="4056120" cy="3043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2"/>
          <a:stretch/>
        </p:blipFill>
        <p:spPr>
          <a:xfrm>
            <a:off x="4667400" y="2228760"/>
            <a:ext cx="40557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"/>
          <p:cNvPicPr/>
          <p:nvPr/>
        </p:nvPicPr>
        <p:blipFill>
          <a:blip r:embed="rId1"/>
          <a:stretch/>
        </p:blipFill>
        <p:spPr>
          <a:xfrm>
            <a:off x="160200" y="2079720"/>
            <a:ext cx="3087720" cy="2738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6299280" y="1581120"/>
            <a:ext cx="2560680" cy="3414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3"/>
          <a:stretch/>
        </p:blipFill>
        <p:spPr>
          <a:xfrm>
            <a:off x="3444840" y="1581120"/>
            <a:ext cx="2560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dcterms:modified xsi:type="dcterms:W3CDTF">2021-03-15T09:50:29Z</dcterms:modified>
  <cp:revision>298</cp:revision>
  <dc:subject/>
  <dc:title>EDUKACIJE  Hrvatski Crveni križ  Služba za EU fondove i edukaciju</dc:title>
</cp:coreProperties>
</file>