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C348-A436-4F03-8513-E26BFA5C4F2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8209-6939-4AE7-98E9-F0282206C26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1361-ACAF-49DE-B549-75E513F65E8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17C-5CCC-46F8-A7CB-6F5E1ED17FF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18ED-5805-4866-818B-2FA49295958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909C-750A-4881-8B6C-9958BD620FB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393C-96A3-4330-BF24-5C7A7E0F3D6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2012-F442-43D8-921F-7AA6BBE019B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5DDF3-4E7A-4952-8291-F39A6030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9B0B0-E3FD-44D3-A807-4E3ABC3C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7D54D-73F4-40DA-9BF0-8603C26A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62C21-FF82-43C0-A079-C7664AD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739E0-D647-4F79-9060-289E6A32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CB52A-28BF-491A-82A1-189AE8E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76B9D-F3A7-4B08-A6B1-855B5197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68DA2-D45E-4FC9-BC3D-5C231134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0AF39-EF4D-4FB6-8C07-BA5786E5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9CF0F-014F-440B-AC41-BD9060B6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76018-3E5D-45D8-B462-C707DA29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289F4-3423-4222-B966-F8E059B6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19F76-C465-46BE-9778-B982070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8575F-50A3-4271-BD44-18E2EBE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E8A38-2120-40F4-AF24-E4E6A8C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AB1E5D-88F7-4E1D-A598-987089A7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5E7B6-142A-476E-AB1E-F913D463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874D6E-38A0-4476-A432-894F89D7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F8565-E88B-4B0A-ADD3-14B67361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CE47D7-25B1-468C-99EB-67AA8EF0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371F8-99BF-4C67-B515-EB1A153E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0D55A-B331-4E1A-9BA7-B07C3277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6BCCFF-265A-4850-9767-3ADB412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DD0853-8721-4951-9E44-A7F0DE2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2D1CB4-51DC-40F9-BDB4-C88671F5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EDFD2-CE03-4DFA-B737-9010AF57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6EFC2-6901-4922-9192-76DB04B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8F000-8B97-4072-BDF9-3836DF0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97D533-6006-4456-A3E7-BC6F3B7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4045D-FC36-4AA1-8380-C16B8C70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22BF6-AEAB-4A66-8273-1A818C8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29B1D-6C78-48A7-881D-DC897898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08BFB3-7F01-4448-9609-CD9C2C4D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13AC5A-3C2C-4B22-9E9D-65E0CC17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A89259-A393-4AFA-AE2C-1960EB0E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277A51-492A-4FE9-B946-2DBFABB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9DA6EA-9BE5-42C4-965C-A8F09BF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9F9F3-702D-4672-A528-6FDA1E02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61B82C-6D22-4CA9-8DF6-37B17A52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835BE1-5BD7-4DAA-A668-5770095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FB694A-640A-4B4E-A00F-3F10AFB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65169B-7FB5-45C7-8AC4-25D78E7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DBFABF-8E9E-4F99-A1F8-1FA2A8DD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BE0129-CB47-4AD3-9FEB-B587A1BB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23731A-DD8C-4964-A465-49437875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3097A-CBD2-4056-898D-5B36E66D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5AEDEB-83AD-4BE4-B501-20827F6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5BCE31-C447-4224-BABC-F66303D9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F0E731-AE88-4050-A393-93C41F65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D3EC38-9EA2-40ED-8A2E-FB2AB18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51E235-1475-4EFB-9592-A76143A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FA5085-323B-4199-9AF3-6DECB94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D7FB16-0851-4463-8105-3B18C55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BD870-38E5-478E-8E9B-14AC1A3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902374-9824-489D-A83A-ECB6804F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C2E88C-2B90-47E2-8781-68066B8B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8BCD3F-1F5A-42A4-ACC2-D5637084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91F9E4-E1C7-4E7E-BB0D-36EEFEAB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9F206A-2BEF-4490-8BDE-34DE954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089836-C764-46B3-A591-66C64EF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994912-9BE2-4E38-9546-545B9BE1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B87EB6-992E-42DC-AA1A-9597832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C77BAC-4CDF-4E9D-ABFA-E7030EBF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F9D44C-380B-4B95-B204-3267B9FD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6E1196-E5ED-40AD-8228-463B7CA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F064B3-2A86-4F59-80F4-4598231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BF7890-EC85-4941-87F1-9861D20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36E84E-6C79-48FC-B381-70B3EAC4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35C737-11A3-4919-B5C9-170B2F66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52667-9CF5-47C6-BC3F-0E2DC23542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AEA09-1747-4433-A4E1-935C8E3B56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61E72-2106-4F05-946A-5DCF5DF74E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575AC-C4ED-4BE2-A8F9-AD0982605A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FC7F3-2099-4E9D-B810-8E3FCE3FFF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B47DC-00B9-498B-A03B-1DDC877114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13D6A-D961-4D16-9685-8902CC732E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6F0B1-DA35-47C7-9A36-61943ACA98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26C1D-7476-4C67-B12F-911BAC339D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88D38-FE30-485F-93DF-6023764DC7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C81E3-A28A-4D11-A084-CC8E9FB92D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C482-4E68-48DD-863F-056549133E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DDAE2-6B8F-4BA1-BA7D-42BEBFFAC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16F92-8619-4CF4-AA0C-1D28725EF1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28F29-35DD-4310-A7E3-27BCBB2E7C9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C5710-E134-42C9-9E82-7DBAC13C3E9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45F86-50A4-468B-B3CC-4377203BAA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6B3F6-22B3-479B-8D96-453720B692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39ED9-A7DC-4938-948A-4529786E3D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286B5-EA63-4D5A-A9B3-07F7A05897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5A8B6-A763-496A-A7FB-1DE9BBB6ED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19131-4316-4799-9BFB-4A4CA49DC4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33713-A83A-4D3B-802B-0C9737445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204F4-83B8-4745-865C-99D544771A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66B45-3924-4AC7-B5CC-425C7379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7F65B-FBA7-4FDA-9085-7E83DFDD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AE65F-3033-4CCD-9AFB-395FCD7F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D3675-8745-4CA1-937B-7B25329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A3F77-13E7-4852-99EE-C5EC4F44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BFD1A-3793-4B1D-8C8D-E4E560E2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4E90A-C8FA-4635-A9CF-B67C5C4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2B0DD-05FA-4A37-B9D2-E065A199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3F236-B732-4F0F-989F-920C46A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B3CA3-86EF-40C9-A5C4-94455D6D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2D8AB-5EDF-4B4D-992E-6AC15022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6F160-4515-4448-8074-0937E8E9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9F816-55A0-4A04-81D6-B891910A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98736-65DF-4F85-AC6C-AD03CDEA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A5FF5-D8CD-4420-9DCC-4A55053A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F723F-F184-403D-AB56-E4C3329C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6CC0D-21B9-4FFA-9A05-A361AA92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F861A-457B-441B-9B83-DEE15F6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9878D-2370-4649-AED3-ACB9FC4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42E13-926A-46BB-B1DA-B1A2D77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AF352-30CA-4E25-A677-DD99263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DB492-452D-405C-805A-948AD547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8B893-F3CF-425C-8303-DA74DDBD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88038-2556-4FAC-BE8F-CA45FF05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2C8FC-0DE1-49D4-8630-28FF5FBD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22CA2-7F17-4FA9-BEA4-DF0E6AD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E2A15-0B6B-45D2-A625-9C2F0910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676B4-C1CA-4A9B-8558-43DE698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7FE02-63F9-41B8-BF34-405A4F20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504CA-5853-45E7-9755-D9EADFB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30715-D594-4986-8B84-C69133F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DE73F-E02E-4E2E-A206-5FB63B51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68FD3-76C5-42C9-9A1E-B640398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E4FA6-07D3-403B-A3FD-130C209A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512F5-7811-4939-B589-9D52FCFB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CF178-2AB1-49C6-9622-F4B652EE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DB541-82DA-4193-82D2-6338BE02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651AE-75EB-4A66-A4CC-68E0B16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B8599-5552-45B5-B8DD-9D5C768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C4B-71E3-449E-BA41-95E35362799B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0" y="17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57200" y="12430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lika 8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14D4-162D-4924-A6C3-2D4C01A8B6F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3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4F79-0DC4-4F53-9B3A-99B8911EBF4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ftr" idx="24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8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F0B-8806-4B6A-B3D7-CDE49E452C7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6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C81-2CA6-4093-AAE7-308189E341F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27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8"/>
          <p:cNvSpPr/>
          <p:nvPr/>
        </p:nvSpPr>
        <p:spPr>
          <a:xfrm>
            <a:off x="457200" y="12859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B73A-7B81-4F3D-BDEA-AF018DDCC1C0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9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0A1B-088C-4E08-A628-267874A9B89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30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8"/>
          <p:cNvSpPr/>
          <p:nvPr/>
        </p:nvSpPr>
        <p:spPr>
          <a:xfrm>
            <a:off x="463680" y="12952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189-5992-428A-8865-E3A8C6BE7113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497-DEF5-46B8-B2E9-C82EE2A4CA4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8"/>
          <p:cNvSpPr/>
          <p:nvPr/>
        </p:nvSpPr>
        <p:spPr>
          <a:xfrm>
            <a:off x="457200" y="13064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F654-0591-4AE0-A429-7C1A137750DF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3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755-B4F9-45AE-8565-F3F70171AEC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6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708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98989"/>
                </a:solidFill>
                <a:latin typeface="Calibri"/>
              </a:rPr>
              <a:t>Lokacija,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B9FD-339A-46CC-AE0D-CFA7337E694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722160" y="440856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0CBD-E755-46D3-BF25-3F12E857A386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457200" y="13921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8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1CF-4855-4FFC-BFE4-0BA9A68C262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C008-EE6E-44DD-8C60-905E3AA33910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2789-6F58-44C8-81CE-EDE4E4D407F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7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459-8F75-43BC-AC61-B7E445A83762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093-E053-4511-BC99-A81DE8F8D4E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5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EA5-824E-44C7-A027-A305C11A1F9F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7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BB3B-B438-4713-9D4B-D0F74F4AAD4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8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8"/>
          <p:cNvSpPr/>
          <p:nvPr/>
        </p:nvSpPr>
        <p:spPr>
          <a:xfrm>
            <a:off x="457200" y="13082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lika 9" descr=""/>
          <p:cNvPicPr/>
          <p:nvPr/>
        </p:nvPicPr>
        <p:blipFill>
          <a:blip r:embed="rId2"/>
          <a:stretch/>
        </p:blipFill>
        <p:spPr>
          <a:xfrm>
            <a:off x="457200" y="63565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A2B-1E10-4A9C-B860-670D9FAAC514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0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5A80-7B64-4518-900C-66D85D60E2D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1"/>
          </p:nvPr>
        </p:nvSpPr>
        <p:spPr>
          <a:xfrm>
            <a:off x="500328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hck.hr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2124000" y="6381720"/>
            <a:ext cx="48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08080"/>
                </a:solidFill>
                <a:latin typeface="Arial"/>
                <a:ea typeface="Arial"/>
              </a:rPr>
              <a:t>Zagreb, 12. siječanj 202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45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Odgoj za humanost od malih nog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003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000000"/>
                </a:solidFill>
                <a:latin typeface="Arial"/>
              </a:rPr>
              <a:t>Kontakt inform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Za potrebe Hrvatskog Crvenog kri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zradila: Ivana Zadražil Vorber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Služba za rad s mladima, volonterima i Škola H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venog križa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000 Zagr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. </a:t>
            </a: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01 4655 814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(1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ck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facebook.com/HrvatskiCrvenikriz.CroatianRedCros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zervirano mjesto broja slajda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1129-50EB-4202-A21B-DC6602D0332F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zervirano mjesto podnožj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Hvala na pozornost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00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898989"/>
                </a:solidFill>
                <a:latin typeface="Arial"/>
              </a:rPr>
              <a:t>Služba za rad s mladima, volonterima </a:t>
            </a:r>
            <a:br>
              <a:rPr sz="2400"/>
            </a:br>
            <a:r>
              <a:rPr b="0" lang="hr-BA" sz="2400" spc="-1" strike="noStrike">
                <a:solidFill>
                  <a:srgbClr val="898989"/>
                </a:solidFill>
                <a:latin typeface="Arial"/>
              </a:rPr>
              <a:t>i Škola Hrvatskog Crvenog kri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 2001. god. HCK provodi edukacije iz područja Humanih vrednota uz suglasnost MZO unutar kurikuluma G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govor o suradnji HCK - AZOO obnovljen (potpisan) </a:t>
            </a:r>
            <a:br>
              <a:rPr sz="2200"/>
            </a:b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01. srpnja 2020. god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ZO je u cjelovitoj kurikularnoj reformi prepoznao važnost tema Hrvatskog Crvenog križ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me programa „Humane vrednote” integrirani su dio gotovo svih međupredmetnih tema u osnovnoj i srednjoj šk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4090-8EB5-4F24-8482-129DB3B88585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radnja se ostvaruje u područjima predškolskog i školskog odgoja i obrazovanja te s određenim visokim učiliš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lonteri i djelatnici društava Hrvatskog Crvenog križa (131 društvo u RH) na području svog djelovanja (grad, općina, županija) u dogovoru sa odgojno-obrazovnim ustanovama provode edukacije i radionice za djelatnike odgojno-obrazovnih ustanova, roditelje, skrbnike, djecu i ml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CC5-9F05-439A-8073-D71EDBBD8F5E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00000"/>
                </a:solidFill>
                <a:latin typeface="Arial"/>
              </a:rPr>
              <a:t>TEME HC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iprema za izvanredne situacije, prva pomoć, klimatske promjene, prevencija trgovanja ljudima, prihvaćanje različitosti, azil i migracije, prevencija diskriminacije, predrasude, stereotipi, interkulturalnost, ljudska prava, solidarnost i volonterstvo, komunikacijske vještine, ravnopravnost spolova, zaštita zdravlja (COVID -19), zdravi stilovi življenja, prevencija ovisnosti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55E-F16B-47E2-80BF-A5D6E810C31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uradnja HCK sa MZO i A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00000"/>
                </a:solidFill>
                <a:latin typeface="Arial"/>
              </a:rPr>
              <a:t>PROGRAMI HCK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tjecanje mladih Hrvatskog Crvenog kri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“ Odgoj za humanost od malih nogu“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„Interdisciplinarne terenske nastave za učenike viših razreda osnovnih škola i za učenike srednjih škola u Edukacijskom centru H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„Sigurnije škole i vrtići”: sigurnija-djeca.hck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i sudjelovanje na konferencijama, stručnim skupovima i edukacijama za odgojitelje, nastavnike, stručne suradnike i druge djelatnike u vrtićima i ško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zervirano mjesto broja slajd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1D4-5388-4798-A1E1-146249C4A209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 programu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dgoj za humanost od malih n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8000" y="1413000"/>
            <a:ext cx="8147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9F55-8671-448D-B7F2-187085B5DA80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468360" y="1341360"/>
            <a:ext cx="83516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program Odgoj za humanost od malih nogu provedeno je testiranje tijekom  2016. u 10 vrtića na ukupno  877 dj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i program stručnog usavršavanja za odgojitelje odobren u rujnu 20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rha pr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Program Odgoj za humanost omogućava djeci rane i predškolske dobi stjecanje odgoja za humaniji, zdraviji i sigurniji živ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Sadrž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28640"/>
            <a:ext cx="80852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Humane vred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Priprema za izvanredne situ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Zaštita zdr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000" spc="-1" strike="noStrike">
                <a:solidFill>
                  <a:srgbClr val="000000"/>
                </a:solidFill>
                <a:latin typeface="Arial"/>
              </a:rPr>
              <a:t>Prevencija trgovanja lju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zervirano mjesto broja slajda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A020-E839-4BC3-8DC6-01DDBDE7802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zervirano mjesto podnožja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gram je namijenje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čnjacima ( 692  odgojno obrazovna djelatnika  educirana tijekom 202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lonterima CK (koji imaju završenu intenzivnu edukaciju iz programa Odgoj za humanost od malih nog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mogu provoditi volonteri uz pristanak odgojno-obrazovnih ustanova (prema odobrenju M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se može provoditi pri društvima Crvenog križa i na taj način obuhvatiti djecu koja su izvan odgojno-obrazovnog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A31-E6CA-49B0-AF57-7B72D6E89D67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178920" y="259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gram se bazira na socio-emocionalnom i spoznajnom razvojnom područ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plementacija programa  podrazumijeva razvoj kompet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svakodnevnim životno-praktičnim situacijama (iskustveno uče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voj kritičkog mišlj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govor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mocionalna angažiranost dje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je cijelim tijel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ručnik –  dosadašnja iskustva potvrđuju da je koristan i inspirativan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dložene aktivnosti – “izazov za osmišljavanje projekata“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(mr.sc. A. Silić, Odgoj za humanost od malih nogu, 2017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dudarnost sa RPOO: uključenost djece s teškoćama u razvoju u programe vrtića (različitost, skrbni odnosi), osvještavanje djece o dječjim pravima/odgovornostima/obvezama, izgrađivanje vlastitog identiteta – temelj za poštivanje tuđ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Svi zakonski dokumenti obvezuju nas na ostvarivanje dječjih prava i unapređivanje uvjeta za njihovo ostvari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391-65B8-4A15-A419-B4D0E5AC1AC1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5003640" y="6346800"/>
            <a:ext cx="368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400" spc="-1" strike="noStrike">
                <a:solidFill>
                  <a:srgbClr val="000000"/>
                </a:solidFill>
                <a:latin typeface="Arial"/>
                <a:ea typeface="Arial"/>
              </a:rPr>
              <a:t>Služba za rad s mladeži i volonterima H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7:51:09Z</dcterms:created>
  <dc:creator>Vukusic</dc:creator>
  <dc:description/>
  <dc:language>en-US</dc:language>
  <cp:lastModifiedBy>Ivana Zadražil-Vorberger</cp:lastModifiedBy>
  <cp:lastPrinted>2021-01-11T14:06:23Z</cp:lastPrinted>
  <dcterms:modified xsi:type="dcterms:W3CDTF">2021-03-15T11:00:52Z</dcterms:modified>
  <cp:revision>391</cp:revision>
  <dc:subject/>
  <dc:title>EDUKACIJE  Hrvatski Crveni križ  Služba za EU fondove i edukaciju</dc:title>
</cp:coreProperties>
</file>