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99734-3B49-4EDF-99C3-94C00FD1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80FB-ECC3-40AD-83DF-49B21D75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09A60-D310-4889-8A7B-F1ECC745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A12F4-9C83-4602-BCB0-4E20B57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FE9E5-E09B-4C1F-8831-1CB850DF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4EC89-5FBA-42C9-851A-517F0057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7CA5F-CCD7-4A1C-9837-0DBEE2A1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0B443-281B-48FC-8EF7-6FDC092D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5FC68-9571-4D24-83D4-26315795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F82FD-1213-435B-BF6D-011DA6D6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A8771-EC0C-4D25-BCF6-B0B5DDA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71AC2-7103-4436-9F6A-B51F0D70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34D10-8CBB-4035-82B1-3E6318F2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A763C-6A22-4CB5-A2A8-60960EFC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8B30D-7FCE-4BD5-9426-401F649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D326F-E9D8-4983-A52E-5620A124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96AE3-6D44-43E9-9C42-40B8AC34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C2D28-7EE7-474A-9459-CDF20679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9B630-B54F-4EA5-9CF0-00977E47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59554-6E51-4833-97B3-727A3BD1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4E7CD-8F6F-4ECF-B030-03C24287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E150C-460C-470C-891A-8065185C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43672-4AFE-4184-847F-312DB4E7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497DF-F751-4F59-86DB-400D4D8B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2A102-32A5-4BB2-BFF7-73CBAD2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994C0-CB6B-4988-95A6-55D55673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4DACC-0011-4DAA-8010-1F3FDF58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AA8D2-B5CA-446D-9CCB-06A66F8B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048DE-6485-4BE4-B5B0-CF1884DE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126CB-7C6F-4B76-A2C9-338E4B7B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E58DD-9DA0-4C85-878C-E9342F3F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09833-902B-4A86-9A4E-CA355F7D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DE8E6-243E-4F31-98E0-5BE8D43C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A0265-F1D2-46A4-A848-157EB999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33E14-BE1A-46B9-8965-090494B9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7CEB0-DB28-4029-BC79-9CAC35F6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85F8A-1F74-4CCB-BB4B-0824FFD4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5AA57-9444-40E2-9BC9-73818D55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04FE4-DBBA-4BB8-B951-9FEE6AED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711E9-B69C-416D-BB99-9D7DFFBD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28CEF-9BF1-47F2-A320-ED6677B1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95916-E189-4BE7-A825-61B15105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175B0-F13C-4DDB-A691-1441554A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81ED5-110D-4B35-A676-3404E95A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97A0B-747F-48BF-9382-B9AD948F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44E59-5E5F-4837-8547-BF0453CE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8D69E-26DC-4806-A512-CB34BED9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9E469-303B-453F-BBCC-53EC47E3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6C8F3-792F-46FC-AA05-756C89B5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8D1CE-8CFF-445E-9F29-062E1648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51351-5532-4674-B13F-34D44B3B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AD051-108D-4196-8607-C37C01E8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F9C6-539C-4501-8342-4E47254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313C0-7AD4-4F0E-A5CC-36CD7186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B3B28-D8A7-4C80-ADE0-FC6D8919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F9392-7716-4AF2-8111-CC0D5D18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6DE4A-DB76-4CA3-BD41-90BAC5E2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F471E-5DA0-4FA6-A358-3EFC3ADE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1CE1B-5F53-4473-9198-3D05EE77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2B298-436D-4735-BED7-C41A045F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979C7-9DE3-4457-8289-411913A1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2B901-1F4B-47F9-A3A4-A99AC70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4093D-2EB9-4441-893B-048FC87C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970BB-0CFC-409D-8360-0FDD4880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1BCC0-5760-4D3B-955F-EEA7F03F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5B989-FF5C-4CBE-95E9-1D64ADCE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68F0A-F7E6-4243-82B5-DF79D3B0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CEFEB-467D-4CA3-8A94-54ADF758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E40B4-23AF-4EDA-9D00-52470C57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561F4-CF30-47F0-8E58-41832D688F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91E22-B89C-40B6-B603-CF868B83BB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571FC-906A-448F-8EA3-947B173B6A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902F6-C005-42C7-83ED-2670D421E2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A3358-98C1-40E0-A807-226BC7A991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D4AB2-94A3-44FF-9353-722CD66645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9553-212F-48DC-B0A1-5396C65CFF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70A76-C208-4876-A20E-442D5D794E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D797F-E913-46C2-B424-400A3FF3FB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32FEE-7E21-4CAA-9AA5-024B61E579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7379C-6B6D-4B5C-9B10-A090B96C14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063A8-4F9C-4328-986B-D0A6F5F5A7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093FF-0D6A-4F44-895D-1341D26AF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BE9C-A051-4FF2-9C3A-F003BB8FBA3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CF2F-EA35-491F-A11A-A913352998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FB65-4D63-408B-A11D-4AA4DEB081A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3827-C014-431F-AC0B-F0A718CE19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4D28-A715-44BC-93FB-04D6BE3AF70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F0C1-2ADB-4EEA-BBC5-6898A9A245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C4F9-58EB-4E7F-9B7D-D454CAA6689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759D-F047-4514-89E5-E6C6F612F4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C88CD-BA14-4FE4-B2E3-A629818A52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2741-A7CB-42A5-8312-34B72FDE2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87833-03B9-4188-B309-269C462C64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41669-5ADA-4849-9CDC-6CD1576E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4E49-12A0-4261-A543-D6589001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B736-8A7B-4F42-8BBB-6FD1E5F1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EA7E-E9FA-4089-9E01-06274C4B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76E54-9ECC-4DD1-966D-2550031D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27CE-DEF5-4472-A880-51BF00DB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DA7C-EE04-4585-98FB-3D8623D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E95A-E6BA-4DEC-911A-B7B22EE5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5BC47-14C1-4708-9531-D9D02145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EFB1A-87F8-45F6-99D1-30AE7AF8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0195B-2B50-4B3F-9503-C74C87F7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7B45-AB64-42E6-9B60-CEC08794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AEE4-3D0B-4EBF-BED2-B1C0F669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11B8-F9F9-47FE-8645-ABDE9F60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76459-823D-4FDB-94EF-1B04071F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73D5E-D76F-4192-90A2-E1C96868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FD23-EDE5-428B-96F6-2EEA38CA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22602-93EC-483B-8CD6-2CA39932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CFFA4-7A49-482C-B29B-CC926320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C89DD-AA17-45CB-8CCF-1598101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18170-8489-41AB-A111-7769DB1B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B9920-DC49-4AF7-907F-AE34967C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724D7-5B5D-4B9E-8A0E-435E0305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0FB1-0C2D-4E0D-9182-13FDB434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B703-B03F-497B-BD40-326A1171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DDEE0-10F9-410D-87A7-6014F682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F006-8217-4FB1-9FD8-5DFD2D0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7F2D-7E8D-4E3C-AF63-C7223274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B34C-ECDF-443A-BE49-B3D5EE43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57D8D-C196-4A37-BEC5-8A752A3E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64466-4401-4526-AC95-C1CF0DB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DFBF-3697-4B9A-B1C4-2B2C09D2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4BD3-0A29-4146-A40D-A68949F5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D1A29-061E-422C-A981-19688C5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19B24-8A87-4BFC-B475-F7E0BBA7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3CFA5-5D15-412F-AC79-295EEC20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F66EE-9F5D-4BDE-8D38-22BAECAE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85ECF-5BAB-4385-B054-94270CB5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7D210-C9CE-4985-AF65-A6410FF1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3B61-AB5A-4EF7-93F5-B630D14D6928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tle 1"/>
          <p:cNvSpPr/>
          <p:nvPr/>
        </p:nvSpPr>
        <p:spPr>
          <a:xfrm>
            <a:off x="0" y="17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57200" y="12430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Slika 8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9B32-B322-42E8-B1C6-B0D68E818FCA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D8C1-4F96-43D2-80D1-485D120C005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Line 8"/>
          <p:cNvSpPr/>
          <p:nvPr/>
        </p:nvSpPr>
        <p:spPr>
          <a:xfrm>
            <a:off x="457200" y="134136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BEE5-22B7-4818-8EAF-5EA2CC79E86B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C0DF-6349-4353-A6C9-728FC4F5A4C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8"/>
          <p:cNvSpPr/>
          <p:nvPr/>
        </p:nvSpPr>
        <p:spPr>
          <a:xfrm>
            <a:off x="457200" y="12859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3E5A-4C0B-4FD3-9028-29E7FD2D6998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9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0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5E1F-5941-4919-A64C-B362F13E531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Line 8"/>
          <p:cNvSpPr/>
          <p:nvPr/>
        </p:nvSpPr>
        <p:spPr>
          <a:xfrm>
            <a:off x="463680" y="12952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478F-0D7F-481C-A061-6BB44F11524F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2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3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194-6832-4877-8414-96A45321735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Line 8"/>
          <p:cNvSpPr/>
          <p:nvPr/>
        </p:nvSpPr>
        <p:spPr>
          <a:xfrm>
            <a:off x="457200" y="13064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E909-5CE4-4126-B0E6-A17C38F5E6BD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5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6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66A7-67E0-413B-8A41-6F052710B50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708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898989"/>
                </a:solidFill>
                <a:latin typeface="Calibri"/>
              </a:rPr>
              <a:t>Lokacija, 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A65D-B8FD-4154-A0F9-A1396511D4EB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722160" y="440856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lika 7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546720" cy="635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7451-B45A-4C82-9ADC-02F82F3A852D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7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457200" y="139212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8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9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F2BF-EDFE-410E-A15E-79A23EEC2BF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F0AD-E6C0-4BAB-82D7-471E69035175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DC1A-549A-407A-80EF-D760CEC6C4F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457200" y="141768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B231-B9FE-4B77-BFC9-D88A91858294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31F-B48A-4767-983B-24BA249AAE8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5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6"/>
          </p:nvPr>
        </p:nvSpPr>
        <p:spPr>
          <a:xfrm>
            <a:off x="324000" y="6346440"/>
            <a:ext cx="21254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7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8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89D0-2CDE-49C6-93E2-9902614E248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Line 8"/>
          <p:cNvSpPr/>
          <p:nvPr/>
        </p:nvSpPr>
        <p:spPr>
          <a:xfrm>
            <a:off x="457200" y="1308240"/>
            <a:ext cx="822960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Slika 7" descr=""/>
          <p:cNvPicPr/>
          <p:nvPr/>
        </p:nvPicPr>
        <p:blipFill>
          <a:blip r:embed="rId2"/>
          <a:stretch/>
        </p:blipFill>
        <p:spPr>
          <a:xfrm>
            <a:off x="6545160" y="6354720"/>
            <a:ext cx="2141640" cy="384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7508-C381-4BF8-8500-13284AD2095C}" type="datetime">
              <a:rPr b="0" lang="hr-H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0"/>
          </p:nvPr>
        </p:nvSpPr>
        <p:spPr>
          <a:xfrm>
            <a:off x="579096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1"/>
          </p:nvPr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333E-1428-4BAD-99D6-245881EE6F1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hck-darda@gmail.hr" TargetMode="External"/><Relationship Id="rId2" Type="http://schemas.openxmlformats.org/officeDocument/2006/relationships/hyperlink" Target="mailto:hck-darda@gmail.hr" TargetMode="External"/><Relationship Id="rId3" Type="http://schemas.openxmlformats.org/officeDocument/2006/relationships/hyperlink" Target="http://www.hck-darda.com/" TargetMode="External"/><Relationship Id="rId4" Type="http://schemas.openxmlformats.org/officeDocument/2006/relationships/hyperlink" Target="http://www.hck.hr/" TargetMode="External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Line 8"/>
          <p:cNvSpPr/>
          <p:nvPr/>
        </p:nvSpPr>
        <p:spPr>
          <a:xfrm>
            <a:off x="755640" y="3284640"/>
            <a:ext cx="748836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2124000" y="6381720"/>
            <a:ext cx="48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Darda</a:t>
            </a:r>
            <a:r>
              <a:rPr b="1" lang="hr-HR" sz="1200" spc="-1" strike="noStrike">
                <a:solidFill>
                  <a:srgbClr val="808080"/>
                </a:solidFill>
                <a:latin typeface="Arial"/>
                <a:ea typeface="Arial"/>
              </a:rPr>
              <a:t>, </a:t>
            </a:r>
            <a:r>
              <a:rPr b="1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18. ožujka 20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145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f7f7f"/>
                </a:solidFill>
                <a:latin typeface="Arial"/>
              </a:rPr>
              <a:t>Moja sretna obitel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003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</a:rPr>
              <a:t>Programi Hrvatskog Crvenog kri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Arial"/>
              </a:rPr>
              <a:t>namijenjeni za pomoć obitel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zvori financ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8. i 2019. godine program “Moja sretna obitelj” je financiran sredstvima lokalnih proračuna jedinica lokalne samouprave zbog prepoznate potrebe za pružanjem ovakvog oblika usluga u lokalnoj zajed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20. godine sklopljen je trogodišnji ugovor s *Ministarstvom za demografiju, obitelj, mlade i socijalnu polit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536B-AE04-44E8-B0B7-9C40651508F7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novne aktivnosti – terapijski susreti obitelji djece s teškoć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Content Placeholder 1" descr=""/>
          <p:cNvPicPr/>
          <p:nvPr/>
        </p:nvPicPr>
        <p:blipFill>
          <a:blip r:embed="rId1"/>
          <a:stretch/>
        </p:blipFill>
        <p:spPr>
          <a:xfrm>
            <a:off x="2101680" y="2421000"/>
            <a:ext cx="4940640" cy="3705120"/>
          </a:xfrm>
          <a:prstGeom prst="rect">
            <a:avLst/>
          </a:prstGeom>
          <a:ln w="0">
            <a:noFill/>
          </a:ln>
        </p:spPr>
      </p:pic>
      <p:sp>
        <p:nvSpPr>
          <p:cNvPr id="626" name="Rezervirano mjesto podnožja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zervirano mjesto broja slajda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310-2959-45FE-9EB4-1888FCBCB6B8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novne aktivnosti – organizirana igra za djecu s teškoća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Content Placeholder 5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5545080" cy="3344760"/>
          </a:xfrm>
          <a:prstGeom prst="rect">
            <a:avLst/>
          </a:prstGeom>
          <a:ln w="0">
            <a:noFill/>
          </a:ln>
        </p:spPr>
      </p:pic>
      <p:sp>
        <p:nvSpPr>
          <p:cNvPr id="630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164A-4E4E-4D82-87D6-D5756DA3DE3A}" type="slidenum">
              <a:rPr b="0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lj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ilj terapijskih susreta je prvenstveno  osnaživanje cijele obitelji, ali i pružanje informacija o pravima i mogućnostima obitelji koje imaju djecu s teškoćama odnosno odraslu djecu s invalidit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2637-EABC-4FB1-B506-1CCB4E8BAB0C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zaz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cija korisnika za dolazak i razgovor sa drug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iguravanje trajnog oblika financiranja programa i adekvatnog prostora z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dabir osoba koje će raditi s korisnic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učnjak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o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 u ciklu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4402-7F5D-4318-B2CA-66EE3778162A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zultati (do sad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edena dva ciklusa osnaživanja ob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irane dvije grupe korisnika: “stari i nov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irana grupa polaznika “roditelji odrasle dje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tijeku 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reći ciklus rada s kombinacijom obje gr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istracija za provođenje socijalnih uslu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zibilizirana zajednica za potrebe obitelji djece s teškoćama kroz promociju programskih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itelji djece s teškoćama motivirane su za rad na se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čeno iskustvo u radu sa specifičnom ranjivom skupi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D066-9F4B-4A67-A3F0-BDEEEB911A6A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zultati (do sad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zibilizirana zajednica za potrebe obitelji djece s teškoćama kroz promociju programskih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itelji djece s teškoćama motivirane su za rad na se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čeno iskustvo u radu sa specifičnom ranjivom skupin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7494-6882-4995-8494-79C6FF681F3F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vjeti za buduće prov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 suradnji s CZSS i lokalnim udrugama istražiti potrebe i mogućnosti u svom okruže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naći educirane (stalne) volontere koji će pomoći stručnom osoblj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Što je više moguće, unaprijed dobro pripremiti tim na izazove rada sa obiteljima djece s teškoć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816B-BDD2-4EF5-8FBF-7A9C48B63920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vjeti za buduće prov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6840" y="14176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gurati financije za cijeli ciklus jer se prekidom rada može učiniti veća šteta nego da nije urađeno n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 komunikaciji s korisnicima odabrati program rada za roditelje, unaprijed samo pripremiti op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misliti način praćenja i potpore korisnicima po završetku cikl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E11-1E0B-4866-A4A6-7B8A6CD1078B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8AED-1C0E-4A8D-BE0D-4C55AB8C1E22}" type="slidenum">
              <a:rPr b="0" lang="hr-H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Content Placeholder 5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418644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 ide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196640"/>
            <a:ext cx="8569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komunikaciji sa predstavnicima škola, vrtića, zdravstvenih i socijalnih ustanova uočena je potreba za savjetovanjem roditelja u lokalnoj zajed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krenut je pilot projekt “Odgovorno roditeljstvo” 2015.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kt je podrazumijevao diseminaciju informacija o roditeljstvu kroz osam različitih modula u lokalnim vrtićima DV Radost Darda i DV Grlica Bilje nakon čega je nastala publik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i priručnik za roditelj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41D-52D6-4C20-92C2-95C04401E230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000000"/>
                </a:solidFill>
                <a:latin typeface="Arial"/>
              </a:rPr>
              <a:t>Kontakt informac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Za potrebe Hrvatskog Crvenog kri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>
                <a:solidFill>
                  <a:srgbClr val="000000"/>
                </a:solidFill>
                <a:latin typeface="Arial"/>
              </a:rPr>
              <a:t>izradio/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ka Poslon, mag. soc.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v. I. Krstitelja 116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326 Dar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31/740-7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ck-darda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@gmail.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ck-darda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hck.h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zervirano mjesto podnožja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zervirano mjesto broja slajda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891-5946-4012-AF13-19EDED6B940A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7f7f7f"/>
                </a:solidFill>
                <a:latin typeface="Arial"/>
              </a:rPr>
              <a:t>Hvala na pozornost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003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BA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 ide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jranjivija skupina roditelja su bili naši  najrevniji polaz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aluacijom su utvrđeni interesi skupine polazn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stala je ideja o programu “Moja sretna obitelj” za roditelje djece s teškoćama u razvo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791320" y="6346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3505320" y="6346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4A6-F1DF-4744-8FCA-6BF98054A07D}" type="slidenum"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"/>
          <p:cNvPicPr/>
          <p:nvPr/>
        </p:nvPicPr>
        <p:blipFill>
          <a:blip r:embed="rId1"/>
          <a:stretch/>
        </p:blipFill>
        <p:spPr>
          <a:xfrm>
            <a:off x="1057320" y="1011240"/>
            <a:ext cx="2830320" cy="21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1332000" y="3373560"/>
            <a:ext cx="1908000" cy="2482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"/>
          <p:cNvPicPr/>
          <p:nvPr/>
        </p:nvPicPr>
        <p:blipFill>
          <a:blip r:embed="rId3"/>
          <a:stretch/>
        </p:blipFill>
        <p:spPr>
          <a:xfrm>
            <a:off x="3460680" y="3460680"/>
            <a:ext cx="3192480" cy="23954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"/>
          <p:cNvPicPr/>
          <p:nvPr/>
        </p:nvPicPr>
        <p:blipFill>
          <a:blip r:embed="rId4"/>
          <a:stretch/>
        </p:blipFill>
        <p:spPr>
          <a:xfrm>
            <a:off x="4132440" y="1011240"/>
            <a:ext cx="1685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" descr=""/>
          <p:cNvPicPr/>
          <p:nvPr/>
        </p:nvPicPr>
        <p:blipFill>
          <a:blip r:embed="rId1"/>
          <a:stretch/>
        </p:blipFill>
        <p:spPr>
          <a:xfrm>
            <a:off x="638280" y="1038240"/>
            <a:ext cx="63529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1" descr=""/>
          <p:cNvPicPr/>
          <p:nvPr/>
        </p:nvPicPr>
        <p:blipFill>
          <a:blip r:embed="rId1"/>
          <a:stretch/>
        </p:blipFill>
        <p:spPr>
          <a:xfrm>
            <a:off x="4619520" y="1181160"/>
            <a:ext cx="3372120" cy="44942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649440" y="1181160"/>
            <a:ext cx="336996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" descr=""/>
          <p:cNvPicPr/>
          <p:nvPr/>
        </p:nvPicPr>
        <p:blipFill>
          <a:blip r:embed="rId1"/>
          <a:stretch/>
        </p:blipFill>
        <p:spPr>
          <a:xfrm>
            <a:off x="349200" y="1173240"/>
            <a:ext cx="3403800" cy="45370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4149720" y="1770120"/>
            <a:ext cx="45846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" descr=""/>
          <p:cNvPicPr/>
          <p:nvPr/>
        </p:nvPicPr>
        <p:blipFill>
          <a:blip r:embed="rId1"/>
          <a:stretch/>
        </p:blipFill>
        <p:spPr>
          <a:xfrm>
            <a:off x="252360" y="2228760"/>
            <a:ext cx="4056120" cy="3043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"/>
          <p:cNvPicPr/>
          <p:nvPr/>
        </p:nvPicPr>
        <p:blipFill>
          <a:blip r:embed="rId2"/>
          <a:stretch/>
        </p:blipFill>
        <p:spPr>
          <a:xfrm>
            <a:off x="4667400" y="2228760"/>
            <a:ext cx="405576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" descr=""/>
          <p:cNvPicPr/>
          <p:nvPr/>
        </p:nvPicPr>
        <p:blipFill>
          <a:blip r:embed="rId1"/>
          <a:stretch/>
        </p:blipFill>
        <p:spPr>
          <a:xfrm>
            <a:off x="160200" y="2079720"/>
            <a:ext cx="3087720" cy="27385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6299280" y="1581120"/>
            <a:ext cx="2560680" cy="34146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3"/>
          <a:stretch/>
        </p:blipFill>
        <p:spPr>
          <a:xfrm>
            <a:off x="3444840" y="1581120"/>
            <a:ext cx="25606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07:51:09Z</dcterms:created>
  <dc:creator>Vukusic</dc:creator>
  <dc:description/>
  <dc:language>en-US</dc:language>
  <cp:lastModifiedBy>Ivana Zadražil-Vorberger</cp:lastModifiedBy>
  <dcterms:modified xsi:type="dcterms:W3CDTF">2021-03-15T09:50:29Z</dcterms:modified>
  <cp:revision>298</cp:revision>
  <dc:subject/>
  <dc:title>EDUKACIJE  Hrvatski Crveni križ  Služba za EU fondove i edukaciju</dc:title>
</cp:coreProperties>
</file>