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8A9E-BC8E-47DF-9DD9-99BF688DE4C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DC6C-6765-4B8B-A234-A03A0ECE9E9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F775-3080-454F-9529-F82C09C14C9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72C2-F93F-43CC-B3DB-ADFBC7ECC7D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6F38-7C61-4272-8D64-7D9B48F72AD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E324-E35B-4BB8-89ED-2F4D4177723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2166-AD2C-418F-A8B0-7FC26AFF956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1A43-1C86-46CA-B808-211AE0CE8E0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002A73-784F-497E-B9A6-C2885583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5910F1-6F2A-47C6-9E07-5E501E06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B28F99-CA6E-4367-A3F5-837C04EA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8BE295-36AA-45B6-9B4A-F2055674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E9611-D5B7-4A4A-9FF3-6C114D56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5DF2BA-0C85-4B2E-8ED1-5290763B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91868A-FFF7-43FC-AC5A-7BB0C4CF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CFA7C-2192-4B56-95A8-04EAFCD9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F9E75C-1BF0-47A5-A204-246150F3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13C7F2-387C-4C2A-BC01-64B0DD31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A15C2F-E429-4ADF-A989-9F24AC2D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CD22C3-F115-4C7E-ACBF-59DF2815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D0372D-05FF-46C6-AEAE-B22B3A36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6B93EF-A2BB-4C22-820A-6915B305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48A808-F696-42DA-805B-B6EEF023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8BF9DC-A1A8-4C85-8CB9-0A000744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347FD3-CD8B-43D2-9C11-2B5A7CBE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B9CE05-5C8A-43B1-87CF-7E8BDCD9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488A52-8F44-49CD-A38A-CE506C35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07D59D-60F4-4401-9E5C-F047A798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5E28E3-670A-4313-8752-D5F516DF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7643CC-22B4-41FF-A731-2F8FA361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C67B37-84CA-4A43-A38C-7CEAA1CA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18A12F-660A-4024-B8A4-60594B7E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67D0E9-F281-4B6E-AD77-0EF21AAA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F05089-757E-4189-BFF6-6A0F01F1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A0E0C1-3C0F-4075-855D-710BB68A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0B37AB-0E9F-4D5B-AEC4-DC045A50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9004F3-B72D-4837-AA21-313D7E01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D44040-911C-4683-8FCC-2ACA1A2D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5E3582-3A22-4E4B-AFAF-100F8102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A099C6-2FE6-4E94-9C02-89103479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504F0B-CC6B-4B4F-AAD8-6B928512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3D12F6-C67E-4A8C-9FED-792A0A48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D969A4-648F-4792-98E4-03A3916E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6CE341-880F-48A8-B000-5CCA58D4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F63284-2229-4017-AC66-F1768F67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76CB75-B968-4E3B-BB2D-7CC7D9B6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0631D7-FFB0-44D6-BBB9-363CBCA5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C8DF30-BD28-4B50-887B-FD0377C7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505528-CEE4-4DE4-BE06-BCF09C65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7D4C4E-AACC-41A4-B113-8C235455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22D750-4A7C-4BFA-A6A5-7BAB6D90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7EC995-F434-4781-B616-E94315BC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DD89F7-B703-4B3D-B26A-70FCD455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998EDF-63F9-4AA8-BF3B-7E2D80F8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AC0349-F24E-4B70-99B9-FD5EE65D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C7D528-1979-491B-8E1B-47B2C40C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B7865E-BADD-4E49-A12C-60614221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843A32-6529-4F87-A96E-764BF484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F33A3E-312F-404E-BF34-E321270D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6682B2-E003-448F-865D-E38F8793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89B4D8-4C3D-4109-BED0-C56E9A56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FB8E3B-1499-427A-B83B-DFDD5A71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E1FCA2-7A56-4B74-A65F-3D99803D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723070-9D95-4F2F-AD63-8892B53D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7C852A-CCCA-4CDA-8BD0-5DED991A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EAD9FC-254B-4D17-84A8-E69065FC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EC2238-564F-4079-9307-F94EE8E0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FEDBD6-97E6-4FE8-8A31-4A50C92C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ED5C3F-D258-4306-89AE-7465DE36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12B527-B81C-4AF9-AD9F-0A3A9AEC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A0F850-0644-4EF9-9710-A178D60B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1EB9A8-577F-4004-8903-F5E65492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0809B8-D2D9-4CCD-AAEF-18F1F09B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54A012-0018-4D7D-9C1C-CE622166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9F4133-FE2B-4993-BD85-8072364D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6450CD-14C6-40F2-BCF6-7AD5DBCF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BB2602-BCAD-44D7-B2DF-5B20F070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BF1E0-AE96-41B6-B0AA-C95C6BCD01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9A44B-2726-4F3D-B4E0-399E607AFE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2EB3F-60FF-41A4-9230-1406FF1ED7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2FF4F-1E67-4E85-A992-473FFB4FA3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8FB39-6BA2-4292-A5E6-EEFD3FB590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E8D5D-FE28-466A-A4AA-5D4CC6B654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92C17-01E4-4F8D-BD3C-258A4190C8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797C5-FEF9-4DFF-945A-F186B8387B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ACD25-2335-42BC-A9C3-51CE6E3740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E2C30-2EFF-4686-96F9-42A0E58957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E537C-7E47-4B3E-8508-9ED009FC63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352F0-DDA1-4F41-9C89-DB01BAEDD1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F86F4-A3B8-4A62-A9EF-AB278A6FC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32358-C31E-41A3-BAD9-C53ACCE372E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8ADCE-DDE4-439D-8DAA-A913CCF81C1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39CF1-0EA2-4B13-9E20-F2B38E34A2C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7FE66-7500-4EA6-ACDB-A2ABFC7F8C0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88472-107C-4B21-B6E1-4EBC646AD9E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7A73C-EAC7-4479-B85A-073EC174FFC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AE09C-3160-444D-83EE-F19B01EDD79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36C14-0213-4E27-B421-49440E1DC9A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E2D72-90D5-4284-AA69-3AC5C7FDCE1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538DC-C09C-4124-A9E4-1B6008E64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C4163-7254-4835-9170-22F51565EF3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11F851-2F18-45FB-8DA1-009431AE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A7FA2-356F-43FE-84FE-6B52532E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1D2831-26F3-4D9D-8449-38A0EFF6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FC8F80-742D-4C07-B04C-BD401E4D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F659DD-C48E-4365-82EE-B29F9698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1E7E82-6B8B-46F7-8A06-940A709E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790324-186E-425D-BD0B-C0C360E5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1638C5-7C56-4F45-8A46-8D4947EF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FC746F-A1C9-450B-97BE-AC77BFB0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C14894-ABD2-4E69-8E7B-8791CE90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58138E-5060-4E18-A5D2-63E769AC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4E6B5C-1E5F-4116-8C6F-4A063198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D3FD5E-BD31-4553-AB4B-5F4FFA73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9CA7D7-440B-41A2-950A-AD95ABB0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42AE2-EA73-4DBC-836B-51DE6462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FE83CA-4677-4A0B-A589-DF85A6D3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DF6394-14F6-4001-A2E2-89D77749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C8445-88B6-49E8-AFC8-C82803A4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50A3EF-DF4E-4F11-873E-50D5E4BB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3E34F-02B4-4164-9504-6A5002A6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AC69CE-C1C3-447B-B266-847BC5DD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952F99-535B-4465-9688-3BE1B689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E541B-5DBC-40DF-862C-264B24EE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DEFD75-509C-4FBF-ACD0-DA97ED0D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0054F5-5BCA-4166-BBEA-1112EF14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23B21D-791B-429E-8204-0F3B0AE1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E54C4C-957C-49FA-BBB0-69F30262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5FD18-D8F2-457B-A6E1-D2F7488F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88EC05-35CE-424E-B5BE-C09FF4BD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E7C6DC-ECD6-4788-8F62-04FEE310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5E3E18-8C64-481F-B72E-2D9D56ED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1A8D72-2251-4AAF-9256-8A69F912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57905E-3B04-48CD-B5B3-12F3DB48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6A51E6-795D-4741-854E-B1CC8DD4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DFEAFD-E9F7-4515-94DE-53011AB0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8D869A-8779-4A60-90EF-A781D665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BA10C2-5A19-42B3-9318-20DD57EE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24AE4A-6010-4181-87A0-CCDA324B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C5A68A-1EC5-4897-98AC-88C37689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E7B6-7588-4E47-B869-62032A970935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itle 1"/>
          <p:cNvSpPr/>
          <p:nvPr/>
        </p:nvSpPr>
        <p:spPr>
          <a:xfrm>
            <a:off x="0" y="17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457200" y="12430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Slika 8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EBFB-D9B4-4222-8A87-F71D69A09E36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23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D717-6CDB-44F6-9238-086086A78C7F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ftr" idx="24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Line 8"/>
          <p:cNvSpPr/>
          <p:nvPr/>
        </p:nvSpPr>
        <p:spPr>
          <a:xfrm>
            <a:off x="457200" y="134136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Slika 9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F8C6-05D9-441E-A21C-42CDB92B7E6C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26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565A-8139-41E4-8672-34B7771290D0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ftr" idx="27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Line 8"/>
          <p:cNvSpPr/>
          <p:nvPr/>
        </p:nvSpPr>
        <p:spPr>
          <a:xfrm>
            <a:off x="457200" y="128592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Slika 9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A9C9-58E4-44D2-937F-0259DDE332F7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29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1177-EDDC-4E41-9552-334B87152361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ftr" idx="30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Line 8"/>
          <p:cNvSpPr/>
          <p:nvPr/>
        </p:nvSpPr>
        <p:spPr>
          <a:xfrm>
            <a:off x="463680" y="12952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Slika 9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9CF8-C056-4A21-A395-3F343B0335EA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sldNum" idx="32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78BD-9942-4E4B-9E28-28BBC6BC6A9A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ftr" idx="33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Line 8"/>
          <p:cNvSpPr/>
          <p:nvPr/>
        </p:nvSpPr>
        <p:spPr>
          <a:xfrm>
            <a:off x="457200" y="130644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Slika 9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9CD0-B3C9-4AF3-B028-7353A1C07994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sldNum" idx="35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530F-B65E-447A-B6AD-46E4CC40BE12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36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8"/>
          <p:cNvSpPr/>
          <p:nvPr/>
        </p:nvSpPr>
        <p:spPr>
          <a:xfrm>
            <a:off x="755640" y="3284640"/>
            <a:ext cx="748836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Slika 7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546720" cy="635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70800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898989"/>
                </a:solidFill>
                <a:latin typeface="Calibri"/>
              </a:rPr>
              <a:t>Lokacija, da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8"/>
          <p:cNvSpPr/>
          <p:nvPr/>
        </p:nvSpPr>
        <p:spPr>
          <a:xfrm>
            <a:off x="457200" y="14176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Slika 7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44B8-97F4-40E6-B015-A1D466B69F78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722160" y="4408560"/>
            <a:ext cx="748836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Slika 7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546720" cy="635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3316-F078-4005-ABDB-88D68C8D720A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7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8"/>
          <p:cNvSpPr/>
          <p:nvPr/>
        </p:nvSpPr>
        <p:spPr>
          <a:xfrm>
            <a:off x="457200" y="139212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Slika 7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8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682E-9D29-4E14-98D2-767E6E11A106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9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8"/>
          <p:cNvSpPr/>
          <p:nvPr/>
        </p:nvSpPr>
        <p:spPr>
          <a:xfrm>
            <a:off x="457200" y="14176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Slika 9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6664-D8C6-40FB-9F30-9C348717CAA2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9E78-DE4A-4EE2-B7FA-535A68642A31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2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8"/>
          <p:cNvSpPr/>
          <p:nvPr/>
        </p:nvSpPr>
        <p:spPr>
          <a:xfrm>
            <a:off x="457200" y="14176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Slika 7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13FF-F78F-4577-9600-E81D4CA40B28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4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0C9C-0066-42D1-9616-882173C3EA04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15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6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1D78-83A5-4199-9D15-C2474DF88DD0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7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3F84-CC08-4F51-8BCB-14C21045C81A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18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Line 8"/>
          <p:cNvSpPr/>
          <p:nvPr/>
        </p:nvSpPr>
        <p:spPr>
          <a:xfrm>
            <a:off x="457200" y="130824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Slika 9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D6AE-E003-475A-879A-567CFFEF5EAC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0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409D-A5DC-4F5D-B9C8-C7DB39BA049C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1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hck.hr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Line 8"/>
          <p:cNvSpPr/>
          <p:nvPr/>
        </p:nvSpPr>
        <p:spPr>
          <a:xfrm>
            <a:off x="755640" y="3284640"/>
            <a:ext cx="748836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2124000" y="6381720"/>
            <a:ext cx="489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808080"/>
                </a:solidFill>
                <a:latin typeface="Arial"/>
                <a:ea typeface="Arial"/>
              </a:rPr>
              <a:t>Zagreb, 12. siječanj 202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452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600" spc="-1" strike="noStrike">
                <a:solidFill>
                  <a:srgbClr val="7f7f7f"/>
                </a:solidFill>
                <a:latin typeface="Arial"/>
              </a:rPr>
              <a:t>Odgoj za humanost od malih nog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13003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BA" sz="24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600" spc="-1" strike="noStrike">
                <a:solidFill>
                  <a:srgbClr val="000000"/>
                </a:solidFill>
                <a:latin typeface="Arial"/>
              </a:rPr>
              <a:t>Kontakt informac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600" spc="-1" strike="noStrike">
                <a:solidFill>
                  <a:srgbClr val="000000"/>
                </a:solidFill>
                <a:latin typeface="Arial"/>
              </a:rPr>
              <a:t>Za potrebe Hrvatskog Crvenog križ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600" spc="-1" strike="noStrike">
                <a:solidFill>
                  <a:srgbClr val="000000"/>
                </a:solidFill>
                <a:latin typeface="Arial"/>
              </a:rPr>
              <a:t>Izradila: Ivana Zadražil Vorbe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600" spc="-1" strike="noStrike">
                <a:solidFill>
                  <a:srgbClr val="000000"/>
                </a:solidFill>
                <a:latin typeface="Arial"/>
              </a:rPr>
              <a:t>Služba za rad s mladima, volonterima i Škola H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hr-BA" sz="1600" spc="-1" strike="noStrike">
                <a:solidFill>
                  <a:srgbClr val="000000"/>
                </a:solidFill>
                <a:latin typeface="Arial"/>
              </a:rPr>
              <a:t>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rvenog križa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000 Zagr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. </a:t>
            </a:r>
            <a:r>
              <a:rPr b="0" lang="hr-BA" sz="1600" spc="-1" strike="noStrike">
                <a:solidFill>
                  <a:srgbClr val="000000"/>
                </a:solidFill>
                <a:latin typeface="Arial"/>
              </a:rPr>
              <a:t>01 4655 814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(1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hck.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://www.facebook.com/HrvatskiCrvenikriz.CroatianRedCros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zervirano mjesto broja slajda 3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25FC-99A0-4701-A004-402C43FA7393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zervirano mjesto podnožja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Arial"/>
                <a:ea typeface="Arial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4210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600" spc="-1" strike="noStrike">
                <a:solidFill>
                  <a:srgbClr val="7f7f7f"/>
                </a:solidFill>
                <a:latin typeface="Arial"/>
              </a:rPr>
              <a:t>Hvala na pozornost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3003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400" spc="-1" strike="noStrike">
                <a:solidFill>
                  <a:srgbClr val="898989"/>
                </a:solidFill>
                <a:latin typeface="Arial"/>
              </a:rPr>
              <a:t>Služba za rad s mladima, volonterima </a:t>
            </a:r>
            <a:br>
              <a:rPr sz="2400"/>
            </a:br>
            <a:r>
              <a:rPr b="0" lang="hr-BA" sz="2400" spc="-1" strike="noStrike">
                <a:solidFill>
                  <a:srgbClr val="898989"/>
                </a:solidFill>
                <a:latin typeface="Arial"/>
              </a:rPr>
              <a:t>i Škola Hrvatskog Crvenog križ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Arial"/>
              </a:rPr>
              <a:t>Suradnja HCK sa MZO i AZ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od 2001. god. HCK provodi edukacije iz područja Humanih vrednota uz suglasnost MZO unutar kurikuluma G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govor o suradnji HCK - AZOO obnovljen (potpisan) </a:t>
            </a:r>
            <a:br>
              <a:rPr sz="2200"/>
            </a:b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01. srpnja 2020. god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ZO je u cjelovitoj kurikularnoj reformi prepoznao važnost tema Hrvatskog Crvenog križ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me programa „Humane vrednote” integrirani su dio gotovo svih međupredmetnih tema u osnovnoj i srednjoj ško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zervirano mjesto broja slajda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672E-26F3-43CD-8A4F-44F28007F358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Arial"/>
              </a:rPr>
              <a:t>Suradnja HCK sa MZO i AZ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radnja se ostvaruje u područjima predškolskog i školskog odgoja i obrazovanja te s određenim visokim učiliš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olonteri i djelatnici društava Hrvatskog Crvenog križa (131 društvo u RH) na području svog djelovanja (grad, općina, županija) u dogovoru sa odgojno-obrazovnim ustanovama provode edukacije i radionice za djelatnike odgojno-obrazovnih ustanova, roditelje, skrbnike, djecu i ml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zervirano mjesto broja slajda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EB53-A055-4213-AAF3-051EEE54D74F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Arial"/>
              </a:rPr>
              <a:t>Suradnja HCK sa MZO i AZ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00000"/>
                </a:solidFill>
                <a:latin typeface="Arial"/>
              </a:rPr>
              <a:t>TEME HCK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iprema za izvanredne situacije, prva pomoć, klimatske promjene, prevencija trgovanja ljudima, prihvaćanje različitosti, azil i migracije, prevencija diskriminacije, predrasude, stereotipi, interkulturalnost, ljudska prava, solidarnost i volonterstvo, komunikacijske vještine, ravnopravnost spolova, zaštita zdravlja (COVID -19), zdravi stilovi življenja, prevencija ovisnosti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zervirano mjesto broja slajda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7856-BC38-4A49-89FB-18C6BFEC2721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Arial"/>
              </a:rPr>
              <a:t>Suradnja HCK sa MZO i AZ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00000"/>
                </a:solidFill>
                <a:latin typeface="Arial"/>
              </a:rPr>
              <a:t>PROGRAMI HCK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tjecanje mladih Hrvatskog Crvenog križ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“ Odgoj za humanost od malih nogu“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 „Interdisciplinarne terenske nastave za učenike viših razreda osnovnih škola i za učenike srednjih škola u Edukacijskom centru H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 „Sigurnije škole i vrtići”: sigurnija-djeca.hck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rganizacija i sudjelovanje na konferencijama, stručnim skupovima i edukacijama za odgojitelje, nastavnike, stručne suradnike i druge djelatnike u vrtićima i ško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zervirano mjesto broja slajda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A7A2-4185-4C4F-88B8-A8CBFFE62E38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 programu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Odgoj za humanost od malih no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68000" y="1413000"/>
            <a:ext cx="8147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9788-6127-4AD1-8ED6-66F7010B2A3E}" type="slidenum">
              <a:rPr b="0" lang="hr-H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Arial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468360" y="1341360"/>
            <a:ext cx="835164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 program Odgoj za humanost od malih nogu provedeno je testiranje tijekom  2016. u 10 vrtića na ukupno  877 dj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ručnik i program stručnog usavršavanja za odgojitelje odobren u rujnu 20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rha progr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Program Odgoj za humanost omogućava djeci rane i predškolske dobi stjecanje odgoja za humaniji, zdraviji i sigurniji živ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Arial"/>
              </a:rPr>
              <a:t>Sadrž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6840" y="1628640"/>
            <a:ext cx="808524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Arial"/>
              </a:rPr>
              <a:t>Humane vred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Arial"/>
              </a:rPr>
              <a:t>Priprema za izvanredne situ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Arial"/>
              </a:rPr>
              <a:t>Zaštita zdrav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Arial"/>
              </a:rPr>
              <a:t>Prevencija trgovanja ljud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zervirano mjesto broja slajda 3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1DDC-09A4-4D79-9093-1AE28AEE29FF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zervirano mjesto podnožja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Arial"/>
                <a:ea typeface="Arial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ogram je namijenjen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ručnjacima ( 692  odgojno obrazovna djelatnika  educirana tijekom 2020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oditel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olonterima CK (koji imaju završenu intenzivnu edukaciju iz programa Odgoj za humanost od malih nog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 mogu provoditi volonteri uz pristanak odgojno-obrazovnih ustanova (prema odobrenju MZ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 se može provoditi pri društvima Crvenog križa i na taj način obuhvatiti djecu koja su izvan odgojno-obrazovnog s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BB32-F127-4FE6-8A01-DD037633A0E8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Arial"/>
                <a:ea typeface="Arial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178920" y="25992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 se bazira na socio-emocionalnom i spoznajnom razvojnom područ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mplementacija programa  podrazumijeva razvoj kompeten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svakodnevnim životno-praktičnim situacijama (iskustveno učen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voj kritičkog mišlj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govorn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mocionalna angažiranost djet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čenje cijelim tijel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ručnik –  dosadašnja iskustva potvrđuju da je koristan i inspirativan instr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dložene aktivnosti – “izazov za osmišljavanje projekata“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(mr.sc. A. Silić, Odgoj za humanost od malih nogu, 2017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dudarnost sa RPOO: uključenost djece s teškoćama u razvoju u programe vrtića (različitost, skrbni odnosi), osvještavanje djece o dječjim pravima/odgovornostima/obvezama, izgrađivanje vlastitog identiteta – temelj za poštivanje tuđ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000000"/>
                </a:solidFill>
                <a:latin typeface="Arial"/>
              </a:rPr>
              <a:t>Svi zakonski dokumenti obvezuju nas na ostvarivanje dječjih prava i unapređivanje uvjeta za njihovo ostvari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1284-E917-44C8-AB1F-EC1C7CA5782A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Arial"/>
                <a:ea typeface="Arial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07:51:09Z</dcterms:created>
  <dc:creator>Vukusic</dc:creator>
  <dc:description/>
  <dc:language>en-US</dc:language>
  <cp:lastModifiedBy>Ivana Zadražil-Vorberger</cp:lastModifiedBy>
  <cp:lastPrinted>2021-01-11T14:06:23Z</cp:lastPrinted>
  <dcterms:modified xsi:type="dcterms:W3CDTF">2021-03-15T11:00:52Z</dcterms:modified>
  <cp:revision>391</cp:revision>
  <dc:subject/>
  <dc:title>EDUKACIJE  Hrvatski Crveni križ  Služba za EU fondove i edukaciju</dc:title>
</cp:coreProperties>
</file>