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41271-6C5F-4430-B8E8-F4CDA09A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3FF3C-00ED-47A9-9AA4-CE667E09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3A531-B31E-431A-A249-B3993E1D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E3E82-D4D7-4CCA-8D45-292DED4F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7CC30-4E0A-4638-87D6-585F72BB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168A7-1463-4932-846F-DD23CCA0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2941E-77E2-492B-BAE5-1DE8CCBC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1FE63-3F0C-4BFA-AD24-89083444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3072B-5484-4194-AF16-F657483B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22C42-5A6C-4B50-81EC-E8D67778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96DBF-D36D-4025-AD9A-F69DB91A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C4E09-DC3B-46D9-B3B3-BC8C7C98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93C22-1D72-41D7-8E6A-C2330704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F6F56-E35A-4473-A91D-368BC22B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D7C40-9CBD-452C-B07A-D35D99C6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D8450-C44E-4EDA-81CB-374E1E83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EFFF4-D62F-401C-A7C7-949C07DF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53AA9-BB11-409F-8A68-0368D10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B11EC-8BDD-4670-AE74-7CAD97EE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4A434-2397-4958-AC8C-AB82B400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E97C7-7AF1-4039-BFE2-D055DC0D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B7176-E13A-42C0-A163-257C7485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53573-8858-4C73-A0A1-74BFE46A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DC0B3-ECDF-4A7D-964F-B8BC6CE7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714A5-B69A-4ABE-8DAE-E4F90BDF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8F99A-7756-4A27-85D1-12388134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61151-651C-4575-835B-CC6F9389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6BE8D-8E57-4B10-862B-E5C330FD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D9D0B-29FD-442F-8EDE-0C7676ED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AD57B-48CD-4AFD-B1E2-AA5D1C1D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86244-6EF2-4961-A2BE-E80DB7B8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30E51-641D-443D-8CD2-DB2A1EB9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083B8-9518-437B-8BA9-6759ED5D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87304-6A39-4692-91CF-8EB6405D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91C9B-384C-4916-B325-DB201E0C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01262-5EB0-4718-B8E8-5E8457A6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D10F6-9445-429D-BCF9-6EC07C8E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4B7CB-50C4-48DF-8BB6-B2A0F584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C7076-111B-45E4-8D66-A6022365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F1D8A-35F8-4E10-B943-9D72719F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88959-5761-4179-91C5-4DBBF4B1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E2817-7DC3-4E56-B5D8-DB521280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F72E8-B30E-4763-83A3-B809E535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51E47-FFCF-45FD-8F7E-EBBDA365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02553-FE4E-4FB5-B1B8-F00CC04B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E473F-5FB7-48C1-ABDF-FA43A13D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01E94-3BCE-4F7B-8CF1-21E13FFC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FE299-D1CA-4123-8D92-FDDF1E44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60E61-DC01-41C5-80B5-A596A4B8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DD611-3BBD-4C50-A9DD-A4CDEBF4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8BB07-EC77-4B19-8D31-2DEDA451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0E51E-505A-4965-93A8-011D7A7A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2FC40-4E2B-4B07-93C6-BF1F3BEA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A849D-8D72-4A24-98B8-36612181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7A365-2D29-4785-9F44-B8656A0C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2443F-5826-41D0-A547-14EC720E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9D7F7-95C0-4971-86B1-FAE8F215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D98B4-DE37-4F59-8FE2-98E96A60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E220E-175C-4D02-8850-F59E984D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C89A7-F5EB-41D2-8EE8-7A79CDEF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75C1A-9CCC-40FF-8C8F-DA48D4B2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8AEEF-891E-4535-9E56-334C2FCD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BE0A1-1400-475E-B227-24D1456B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F6BF9-3F1F-43E3-8409-A883B9E9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0C876-7E8E-438F-A0E0-92B50728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4C633-2713-477B-A1DF-92779BFD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99F71-FC7C-44DD-8770-26FBB54B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8A988-1DF4-4CE2-AD9A-0A894192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B2D65-EC6B-4533-BEBB-6B27715F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3DDD1-50C2-4337-A367-C7C6967519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AE667-A1AA-465A-9F0C-CF3DF9B0BE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B215B-77B5-4A4B-831F-295F7A7F24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D94F1-8278-46F9-9850-C06426AAB2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E1829-679B-4625-BD48-7631E686F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612D7-E5FA-401A-8869-0B2D6ECEA4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1D921-5A57-454E-A45D-493E16B13B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11D53-C025-4182-84E1-564043EC2B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98AF4-B486-47CD-86A6-8B6E74B6E0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0E1CC-8360-4A99-9FB8-E063F04498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B484B-5325-457E-82A7-E77ADEBD6D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8A16E-DF3A-4886-A326-B12FA5DD6A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9DEA-1E26-450A-B9F1-DB3AF39DF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2FE8-9B8A-4A0D-8615-0CB7895C6EE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808D-AD26-44EE-8F88-FF5E8D4996F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7966-D63B-4F7C-A969-A7BB06851A9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8E110-E14D-41AC-87D9-74D4DD6F61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5883-FC01-4EE8-B624-46A7BDB57E5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D912-B477-4FD8-92AA-31266AFCFD3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F8B5-99EC-48CB-8785-BECD567B3F4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52FB-C08E-47F3-AE84-9E43DABA04F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574D-F9A0-4564-88F2-D91E9161DF2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D6F6-D3C5-4871-B420-52C666F9F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FEC2-27E6-45E9-A037-723D758BA3C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703D9-A309-4DF4-A4EB-23EF55AE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71896-E4F1-4F03-AF01-850D0AE5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4F513-85E1-46F4-848A-B3B2E351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CEE58-22D6-491F-A933-2B9A8484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6151-C6A4-46A0-9C16-3AAB6C73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DBD7-8B92-4149-B86F-C59B4A07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D11FA-4224-44CF-AF7D-22472EC4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BD12E-7CEA-4C4C-A5F2-B94D74B5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7C1E4-C665-4B7D-A0E1-B64517BB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87BB3-C7ED-4517-B2D9-F5D966C0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4D64C-B7BF-41F8-86DC-49965ED7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9DDF4-2730-489F-B661-5556CCF7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A8461-414C-4CCE-BFA9-9ED0C57E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889FC-E0BE-4D3B-A920-CA98A8EF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58EF-F959-4737-AF9E-AB27EDB2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F71C9-5300-404B-ACAC-50F26E0C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125E9-FE8C-4A0D-9CF3-6A40499F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F0DE5-135E-4E6F-9FFC-F2588AAF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D606E-A7F2-4FB2-B2DE-522FC967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1E848-C54A-4DB1-AFCB-B37C0018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C5451-A1F4-4841-9CE7-A8F582F7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C7572-B7BE-42EA-89D7-9EBB6485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7FBD1-3894-48D8-AFE6-AE6D0DAA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A1B7A-5F45-45CC-816A-71DA1FAF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41B3C-5183-425F-B8A7-27C0F08D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56C52-B3F9-4E67-898A-EFDB2671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A4153-3300-4FD0-B62D-665F9327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7250D-A41D-4188-8F26-753FF61C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7C140-4540-44E0-B648-2D66FA5D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C559E-2578-4F57-A494-37611AFF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DF049-C5E9-4E6E-A7B1-1C2FA21C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E2C0A-B6E3-4ED7-8351-B9A0B74F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EAE0D-85C0-4A6B-B63D-7867934B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0C325-BE3A-487A-ADD2-373D222E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144C1-385B-4EA8-8E31-43A69BD1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B00EF-7B6B-45BF-BA29-76999919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88935-3283-4E1E-A130-1B60EAFF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E81CC-81C8-43EC-9E46-F9B02FB3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E014A-9818-4DF2-83EB-78D5E090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7087-7F3F-4E69-ABA3-9F112E46A136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tle 1"/>
          <p:cNvSpPr/>
          <p:nvPr/>
        </p:nvSpPr>
        <p:spPr>
          <a:xfrm>
            <a:off x="0" y="17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457200" y="12430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Slika 8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86E7-ACED-4DEA-96E2-460752741B4D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3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4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8CB0-7E73-4264-ACF8-EF2712F5E04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Line 8"/>
          <p:cNvSpPr/>
          <p:nvPr/>
        </p:nvSpPr>
        <p:spPr>
          <a:xfrm>
            <a:off x="457200" y="134136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EF10-9916-4ED3-AA3C-F7EC58BB01B8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BDFD-AB88-4D8B-AD9F-58A8EA854496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8"/>
          <p:cNvSpPr/>
          <p:nvPr/>
        </p:nvSpPr>
        <p:spPr>
          <a:xfrm>
            <a:off x="457200" y="128592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B402-15AF-497E-BF4B-CCD2DC142C19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9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0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1643-882F-4215-B32D-377B8805997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Line 8"/>
          <p:cNvSpPr/>
          <p:nvPr/>
        </p:nvSpPr>
        <p:spPr>
          <a:xfrm>
            <a:off x="463680" y="12952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F693-24D9-4EC4-A76C-045200EAE47E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2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3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E0FF-D9B3-41B4-814F-A79ABC675640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Line 8"/>
          <p:cNvSpPr/>
          <p:nvPr/>
        </p:nvSpPr>
        <p:spPr>
          <a:xfrm>
            <a:off x="457200" y="130644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5646-8096-4441-A53F-891B4F31B101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5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6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F992-35C8-4BED-A6C4-5DC06A22152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8"/>
          <p:cNvSpPr/>
          <p:nvPr/>
        </p:nvSpPr>
        <p:spPr>
          <a:xfrm>
            <a:off x="755640" y="328464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Slika 7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546720" cy="635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708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898989"/>
                </a:solidFill>
                <a:latin typeface="Calibri"/>
              </a:rPr>
              <a:t>Lokacija, 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9F1B-A9FF-450D-864B-8439B0C3454F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722160" y="440856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Slika 7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546720" cy="635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C780-1965-45F9-98F9-DD84E86716B7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7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8"/>
          <p:cNvSpPr/>
          <p:nvPr/>
        </p:nvSpPr>
        <p:spPr>
          <a:xfrm>
            <a:off x="457200" y="139212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8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9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632F-15DE-46A6-8405-765F1E4752E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CF4B-01CE-4CAD-97F1-E6EFCDC959A4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2923-04C9-42E1-B6DF-43335BEB0104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07E1-9BCF-4605-ACD8-D356653EB098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3F3F-DF88-4719-AD18-003D5C4B0AEF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5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6"/>
          </p:nvPr>
        </p:nvSpPr>
        <p:spPr>
          <a:xfrm>
            <a:off x="324000" y="6346440"/>
            <a:ext cx="21254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7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8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48DA-D660-435C-A32D-F7A5992BD40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8"/>
          <p:cNvSpPr/>
          <p:nvPr/>
        </p:nvSpPr>
        <p:spPr>
          <a:xfrm>
            <a:off x="457200" y="130824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9908-5A9B-4558-814A-248E7CDCBD1C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0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1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C8DB-70A5-4CE3-B9FA-079272FF87E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hck-darda@gmail.hr" TargetMode="External"/><Relationship Id="rId2" Type="http://schemas.openxmlformats.org/officeDocument/2006/relationships/hyperlink" Target="mailto:hck-darda@gmail.hr" TargetMode="External"/><Relationship Id="rId3" Type="http://schemas.openxmlformats.org/officeDocument/2006/relationships/hyperlink" Target="http://www.hck-darda.com/" TargetMode="External"/><Relationship Id="rId4" Type="http://schemas.openxmlformats.org/officeDocument/2006/relationships/hyperlink" Target="http://www.hck.hr/" TargetMode="External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Line 8"/>
          <p:cNvSpPr/>
          <p:nvPr/>
        </p:nvSpPr>
        <p:spPr>
          <a:xfrm>
            <a:off x="755640" y="328464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2124000" y="6381720"/>
            <a:ext cx="48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Darda</a:t>
            </a:r>
            <a:r>
              <a:rPr b="1" lang="hr-HR" sz="1200" spc="-1" strike="noStrike">
                <a:solidFill>
                  <a:srgbClr val="808080"/>
                </a:solidFill>
                <a:latin typeface="Arial"/>
                <a:ea typeface="Arial"/>
              </a:rPr>
              <a:t>, 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18. ožujka 20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145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f7f7f"/>
                </a:solidFill>
                <a:latin typeface="Arial"/>
              </a:rPr>
              <a:t>Moja sretna obitel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003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Arial"/>
              </a:rPr>
              <a:t>Programi Hrvatskog Crvenog kri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Arial"/>
              </a:rPr>
              <a:t>namijenjeni za pomoć obitel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zvori financi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8. i 2019. godine program “Moja sretna obitelj” je financiran sredstvima lokalnih proračuna jedinica lokalne samouprave zbog prepoznate potrebe za pružanjem ovakvog oblika usluga u lokalnoj zajed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20. godine sklopljen je trogodišnji ugovor s *Ministarstvom za demografiju, obitelj, mlade i socijalnu polit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4D40-DC8A-4AEC-A83D-AF61AE0DED83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snovne aktivnosti – terapijski susreti obitelji djece s teškoć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Content Placeholder 1" descr=""/>
          <p:cNvPicPr/>
          <p:nvPr/>
        </p:nvPicPr>
        <p:blipFill>
          <a:blip r:embed="rId1"/>
          <a:stretch/>
        </p:blipFill>
        <p:spPr>
          <a:xfrm>
            <a:off x="2101680" y="2421000"/>
            <a:ext cx="4940640" cy="3705120"/>
          </a:xfrm>
          <a:prstGeom prst="rect">
            <a:avLst/>
          </a:prstGeom>
          <a:ln w="0">
            <a:noFill/>
          </a:ln>
        </p:spPr>
      </p:pic>
      <p:sp>
        <p:nvSpPr>
          <p:cNvPr id="626" name="Rezervirano mjesto podnožja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zervirano mjesto broja slajda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050A-5A33-4489-BDD1-B8C69A9D2C59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snovne aktivnosti – organizirana igra za djecu s teškoća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Content Placeholder 5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5545080" cy="3344760"/>
          </a:xfrm>
          <a:prstGeom prst="rect">
            <a:avLst/>
          </a:prstGeom>
          <a:ln w="0">
            <a:noFill/>
          </a:ln>
        </p:spPr>
      </p:pic>
      <p:sp>
        <p:nvSpPr>
          <p:cNvPr id="630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CBEF-1CA1-4A0A-A015-E49A37AA0772}" type="slidenum">
              <a:rPr b="0" lang="hr-H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lj 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lj terapijskih susreta je prvenstveno  osnaživanje cijele obitelji, ali i pružanje informacija o pravima i mogućnostima obitelji koje imaju djecu s teškoćama odnosno odraslu djecu s invalidite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74B7-CC95-4796-A0BE-65CB449B7D12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zaz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ivacija korisnika za dolazak i razgovor sa drug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iguravanje trajnog oblika financiranja programa i adekvatnog prostora za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dabir osoba koje će raditi s korisnic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učnjak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on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 u ciklu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4FEE-DF9F-4CE7-B4A6-A5D5B791B914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zultati (do sad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edena dva ciklusa osnaživanja ob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irane dvije grupe korisnika: “stari i nov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irana grupa polaznika “roditelji odrasle dje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 tijeku j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reći ciklus rada s kombinacijom obje gr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racija za provođenje socijalnih uslu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zibilizirana zajednica za potrebe obitelji djece s teškoćama kroz promociju programskih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itelji djece s teškoćama motivirane su za rad na se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čeno iskustvo u radu sa specifičnom ranjivom skupi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ED64-F8A0-4340-ACA6-FBABC6E776B5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zultati (do sad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zibilizirana zajednica za potrebe obitelji djece s teškoćama kroz promociju programskih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itelji djece s teškoćama motivirane su za rad na se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čeno iskustvo u radu sa specifičnom ranjivom skupin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9BAE-0F46-4D4A-9B58-71807249267D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vjeti za buduće prov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 suradnji s CZSS i lokalnim udrugama istražiti potrebe i mogućnosti u svom okruže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naći educirane (stalne) volontere koji će pomoći stručnom osoblj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Što je više moguće, unaprijed dobro pripremiti tim na izazove rada sa obiteljima djece s teškoć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6BE7-3EB2-42BE-BEF3-C02224968037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vjeti za buduće prov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6840" y="14176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gurati financije za cijeli ciklus jer se prekidom rada može učiniti veća šteta nego da nije urađeno n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 komunikaciji s korisnicima odabrati program rada za roditelje, unaprijed samo pripremiti op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misliti način praćenja i potpore korisnicima po završetku cikl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60C8-BB64-4C8C-935C-A49A6FC0CE9C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32F2-6AA3-40EF-9248-CF77D1339B66}" type="slidenum">
              <a:rPr b="0" lang="hr-H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Content Placeholder 5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418644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 ide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196640"/>
            <a:ext cx="85694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 komunikaciji sa predstavnicima škola, vrtića, zdravstvenih i socijalnih ustanova uočena je potreba za savjetovanjem roditelja u lokalnoj zajed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krenut je pilot projekt “Odgovorno roditeljstvo” 2015.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kt je podrazumijevao diseminaciju informacija o roditeljstvu kroz osam različitih modula u lokalnim vrtićima DV Radost Darda i DV Grlica Bilje nakon čega je nastala publik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i priručnik za roditelj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5427-3FE9-4583-9718-8D2EF36A3F95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000000"/>
                </a:solidFill>
                <a:latin typeface="Arial"/>
              </a:rPr>
              <a:t>Kontakt informa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Za potrebe Hrvatskog Crvenog križ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izradio/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ka Poslon, mag. soc.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v. I. Krstitelja 116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326 Dar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31/740-7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ck-darda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@gmail.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ck-darda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hck.h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zervirano mjesto podnožja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zervirano mjesto broja slajda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E6A1-8B32-4DBF-A750-A35CFD9049BE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4210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7f7f7f"/>
                </a:solidFill>
                <a:latin typeface="Arial"/>
              </a:rPr>
              <a:t>Hvala na pozornost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3003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BA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 ide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jranjivija skupina roditelja su bili naši  najrevniji polaz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cijom su utvrđeni interesi skupine polazn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stala je ideja o programu “Moja sretna obitelj” za roditelje djece s teškoćama u razvo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B668-478B-4343-BFA9-62BFC472E739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" descr=""/>
          <p:cNvPicPr/>
          <p:nvPr/>
        </p:nvPicPr>
        <p:blipFill>
          <a:blip r:embed="rId1"/>
          <a:stretch/>
        </p:blipFill>
        <p:spPr>
          <a:xfrm>
            <a:off x="1057320" y="1011240"/>
            <a:ext cx="2830320" cy="2124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2"/>
          <a:stretch/>
        </p:blipFill>
        <p:spPr>
          <a:xfrm>
            <a:off x="1332000" y="3373560"/>
            <a:ext cx="1908000" cy="2482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"/>
          <p:cNvPicPr/>
          <p:nvPr/>
        </p:nvPicPr>
        <p:blipFill>
          <a:blip r:embed="rId3"/>
          <a:stretch/>
        </p:blipFill>
        <p:spPr>
          <a:xfrm>
            <a:off x="3460680" y="3460680"/>
            <a:ext cx="3192480" cy="23954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"/>
          <p:cNvPicPr/>
          <p:nvPr/>
        </p:nvPicPr>
        <p:blipFill>
          <a:blip r:embed="rId4"/>
          <a:stretch/>
        </p:blipFill>
        <p:spPr>
          <a:xfrm>
            <a:off x="4132440" y="1011240"/>
            <a:ext cx="1685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" descr=""/>
          <p:cNvPicPr/>
          <p:nvPr/>
        </p:nvPicPr>
        <p:blipFill>
          <a:blip r:embed="rId1"/>
          <a:stretch/>
        </p:blipFill>
        <p:spPr>
          <a:xfrm>
            <a:off x="638280" y="1038240"/>
            <a:ext cx="63529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1" descr=""/>
          <p:cNvPicPr/>
          <p:nvPr/>
        </p:nvPicPr>
        <p:blipFill>
          <a:blip r:embed="rId1"/>
          <a:stretch/>
        </p:blipFill>
        <p:spPr>
          <a:xfrm>
            <a:off x="4619520" y="1181160"/>
            <a:ext cx="3372120" cy="44942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649440" y="1181160"/>
            <a:ext cx="336996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" descr=""/>
          <p:cNvPicPr/>
          <p:nvPr/>
        </p:nvPicPr>
        <p:blipFill>
          <a:blip r:embed="rId1"/>
          <a:stretch/>
        </p:blipFill>
        <p:spPr>
          <a:xfrm>
            <a:off x="349200" y="1173240"/>
            <a:ext cx="3403800" cy="45370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"/>
          <p:cNvPicPr/>
          <p:nvPr/>
        </p:nvPicPr>
        <p:blipFill>
          <a:blip r:embed="rId2"/>
          <a:stretch/>
        </p:blipFill>
        <p:spPr>
          <a:xfrm>
            <a:off x="4149720" y="1770120"/>
            <a:ext cx="45846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" descr=""/>
          <p:cNvPicPr/>
          <p:nvPr/>
        </p:nvPicPr>
        <p:blipFill>
          <a:blip r:embed="rId1"/>
          <a:stretch/>
        </p:blipFill>
        <p:spPr>
          <a:xfrm>
            <a:off x="252360" y="2228760"/>
            <a:ext cx="4056120" cy="3043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"/>
          <p:cNvPicPr/>
          <p:nvPr/>
        </p:nvPicPr>
        <p:blipFill>
          <a:blip r:embed="rId2"/>
          <a:stretch/>
        </p:blipFill>
        <p:spPr>
          <a:xfrm>
            <a:off x="4667400" y="2228760"/>
            <a:ext cx="405576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" descr=""/>
          <p:cNvPicPr/>
          <p:nvPr/>
        </p:nvPicPr>
        <p:blipFill>
          <a:blip r:embed="rId1"/>
          <a:stretch/>
        </p:blipFill>
        <p:spPr>
          <a:xfrm>
            <a:off x="160200" y="2079720"/>
            <a:ext cx="3087720" cy="27385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6299280" y="1581120"/>
            <a:ext cx="2560680" cy="34146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"/>
          <p:cNvPicPr/>
          <p:nvPr/>
        </p:nvPicPr>
        <p:blipFill>
          <a:blip r:embed="rId3"/>
          <a:stretch/>
        </p:blipFill>
        <p:spPr>
          <a:xfrm>
            <a:off x="3444840" y="1581120"/>
            <a:ext cx="25606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07:51:09Z</dcterms:created>
  <dc:creator>Vukusic</dc:creator>
  <dc:description/>
  <dc:language>en-US</dc:language>
  <cp:lastModifiedBy>Ivana Zadražil-Vorberger</cp:lastModifiedBy>
  <dcterms:modified xsi:type="dcterms:W3CDTF">2021-03-15T09:50:29Z</dcterms:modified>
  <cp:revision>298</cp:revision>
  <dc:subject/>
  <dc:title>EDUKACIJE  Hrvatski Crveni križ  Služba za EU fondove i edukaciju</dc:title>
</cp:coreProperties>
</file>